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4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6CB-4851-4BD1-A87E-4CCC108320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D054-8F22-479F-A5A0-93E295ECFF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ared to milk quota sy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 quotas, possibility to oversupply -&gt; C b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59F-8DDC-4925-8F81-BCBE6124D7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AAD5-92A8-4FAD-827C-6238753FB0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FA58-5576-4754-A65D-5D8E28A8CE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515-1697-49B3-90DD-281EEDDC92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E974-99EF-4842-A287-5BF6B97CDB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3E87-8450-4E46-8149-4A0C4DF354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13D7-6186-4F45-80F6-23AFD91CE9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B05-DD3A-4866-95FC-D8C442A89A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C20B-CDEA-466E-9ED6-B5A571F9C6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02C-9446-426D-9CEF-8F7B051D15B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CBC-5175-46DE-9892-0D7838C4C4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FC74-14A4-418A-9811-165C90AB7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B129-F294-4EF8-AEC5-BC143E43F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A156-75B4-474B-B606-003D375C0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A4E8-00FD-47D1-9E07-9B41F3A84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9A96-999D-41F4-A211-B468C1D9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6E50-64D7-4F3A-9B8E-B745EB15A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91F9-6C1E-4BB2-B337-755C1903B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E524-1B18-429B-8CED-CCB8DCA82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B54A-9A47-4375-889A-6F64B35E2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C93E-04FF-4B77-B5B3-9DD4008EC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9B86-5B45-4804-9D95-71B3F68A8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3775-406F-47BD-BE9E-954CE1C1E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2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3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17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18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412000" y="6582600"/>
            <a:ext cx="36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APRI Training Session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saw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26-30 200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7E6A-CE33-4288-B658-CC7B7A8E7E62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74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88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89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105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385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and Input Coefficients</a:t>
            </a:r>
            <a:br>
              <a:rPr sz="3200"/>
            </a:b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 the regional supply mode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</a:t>
            </a:r>
            <a:br>
              <a:rPr sz="3200"/>
            </a:b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mmon Agricultural Policy Regional Impa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– Feed modu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20560" y="1468440"/>
            <a:ext cx="81010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imal activities demand nutrients which are supplied by crop feeding activiti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, protein, fiber and dry matter requirements are calculated for 16 animal activities based on bio-physical equ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parts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35040" indent="-177840">
              <a:lnSpc>
                <a:spcPct val="120000"/>
              </a:lnSpc>
              <a:buClr>
                <a:srgbClr val="ffffff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of nutrients by animals and availability of them on feeding aggregates defined: requirement functions for each animal category are estimated depending on the ingestion capacity, live weight, days of production and yield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35040" indent="-177840">
              <a:lnSpc>
                <a:spcPct val="120000"/>
              </a:lnSpc>
              <a:buClr>
                <a:srgbClr val="ffffff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dder prices are estimated for non tradable feeding compounds in the model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35040" indent="-1778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8785-15D6-4BC9-8B8E-B0EAC591B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- Feed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015920" y="3414600"/>
            <a:ext cx="7231320" cy="1614600"/>
            <a:chOff x="1015920" y="3414600"/>
            <a:chExt cx="7231320" cy="1614600"/>
          </a:xfrm>
        </p:grpSpPr>
        <p:sp>
          <p:nvSpPr>
            <p:cNvPr id="747" name=""/>
            <p:cNvSpPr/>
            <p:nvPr/>
          </p:nvSpPr>
          <p:spPr>
            <a:xfrm>
              <a:off x="1015920" y="3414600"/>
              <a:ext cx="6413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Balance for feeding stuff (Feduse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8" name=""/>
                <p:cNvSpPr txBox="1"/>
                <p:nvPr/>
              </p:nvSpPr>
              <p:spPr>
                <a:xfrm>
                  <a:off x="1025640" y="4144680"/>
                  <a:ext cx="722160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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maact</m:t>
                          </m:r>
                        </m:sub>
                        <m:sup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edn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v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fedus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eed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9" name=""/>
          <p:cNvGrpSpPr/>
          <p:nvPr/>
        </p:nvGrpSpPr>
        <p:grpSpPr>
          <a:xfrm>
            <a:off x="1015920" y="1243080"/>
            <a:ext cx="5956560" cy="1976400"/>
            <a:chOff x="1015920" y="1243080"/>
            <a:chExt cx="5956560" cy="1976400"/>
          </a:xfrm>
        </p:grpSpPr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1744560" y="1952640"/>
                  <a:ext cx="469908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e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y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dn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act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ed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ed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qs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51" name=""/>
            <p:cNvSpPr/>
            <p:nvPr/>
          </p:nvSpPr>
          <p:spPr>
            <a:xfrm>
              <a:off x="1015920" y="1243080"/>
              <a:ext cx="5956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Requirements for animals (Reqs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720960" y="4052880"/>
            <a:ext cx="4737240" cy="2093760"/>
            <a:chOff x="3720960" y="4052880"/>
            <a:chExt cx="4737240" cy="2093760"/>
          </a:xfrm>
        </p:grpSpPr>
        <p:sp>
          <p:nvSpPr>
            <p:cNvPr id="753" name=""/>
            <p:cNvSpPr/>
            <p:nvPr/>
          </p:nvSpPr>
          <p:spPr>
            <a:xfrm>
              <a:off x="7023240" y="4052880"/>
              <a:ext cx="1434960" cy="95256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375240" y="4954320"/>
              <a:ext cx="702000" cy="3553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0960" y="5143320"/>
              <a:ext cx="27752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Prices for feeding stuff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0FC2-796E-4B46-9B29-D7A2562EE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- Feed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015920" y="3427560"/>
            <a:ext cx="7110360" cy="1895400"/>
            <a:chOff x="1015920" y="3427560"/>
            <a:chExt cx="7110360" cy="1895400"/>
          </a:xfrm>
        </p:grpSpPr>
        <mc:AlternateContent>
          <mc:Choice xmlns:a14="http://schemas.microsoft.com/office/drawing/2010/main" Requires="a14">
            <p:sp>
              <p:nvSpPr>
                <p:cNvPr id="758" name=""/>
                <p:cNvSpPr txBox="1"/>
                <p:nvPr/>
              </p:nvSpPr>
              <p:spPr>
                <a:xfrm>
                  <a:off x="1544760" y="4410000"/>
                  <a:ext cx="6581520" cy="9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e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drma</m:t>
                              </m:r>
                            </m:sup>
                          </m:sSubSup>
                          <m:r>
                            <m:t xml:space="preserve">∗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y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  <m:r>
                            <m:t xml:space="preserve">∗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xsh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  <m:r>
                            <m:t xml:space="preserve">∗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e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ins</m:t>
                              </m:r>
                            </m:sup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edn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m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shr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59" name=""/>
            <p:cNvSpPr/>
            <p:nvPr/>
          </p:nvSpPr>
          <p:spPr>
            <a:xfrm>
              <a:off x="1015920" y="3427560"/>
              <a:ext cx="5867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Minimum dry matter intake (MinShr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1028880" y="1344600"/>
            <a:ext cx="7661160" cy="1860480"/>
            <a:chOff x="1028880" y="1344600"/>
            <a:chExt cx="7661160" cy="1860480"/>
          </a:xfrm>
        </p:grpSpPr>
        <mc:AlternateContent>
          <mc:Choice xmlns:a14="http://schemas.microsoft.com/office/drawing/2010/main" Requires="a14">
            <p:sp>
              <p:nvSpPr>
                <p:cNvPr id="761" name=""/>
                <p:cNvSpPr txBox="1"/>
                <p:nvPr/>
              </p:nvSpPr>
              <p:spPr>
                <a:xfrm>
                  <a:off x="1057320" y="2043000"/>
                  <a:ext cx="7632720" cy="11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e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drma</m:t>
                              </m:r>
                            </m:sup>
                          </m:sSub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y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sh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re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axs</m:t>
                              </m:r>
                            </m:sup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edn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rm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shr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62" name=""/>
            <p:cNvSpPr/>
            <p:nvPr/>
          </p:nvSpPr>
          <p:spPr>
            <a:xfrm>
              <a:off x="1028880" y="1344600"/>
              <a:ext cx="48006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Maximum dry matter intake (MaxShr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20D1-B18D-473F-9AB5-426F46693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- Young anima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003320" y="1281240"/>
            <a:ext cx="6350040" cy="1595160"/>
            <a:chOff x="1003320" y="1281240"/>
            <a:chExt cx="6350040" cy="1595160"/>
          </a:xfrm>
        </p:grpSpPr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1092240" y="1955880"/>
                  <a:ext cx="6261120" cy="92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omyani</m:t>
                          </m:r>
                        </m:sub>
                        <m:sup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anus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myani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maact</m:t>
                          </m:r>
                        </m:sub>
                        <m:sup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v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</m:sSub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O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ac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yani</m:t>
                              </m:r>
                            </m:sup>
                          </m:sSubSup>
                        </m:e>
                      </m:nary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yan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66" name=""/>
            <p:cNvSpPr/>
            <p:nvPr/>
          </p:nvSpPr>
          <p:spPr>
            <a:xfrm>
              <a:off x="1003320" y="1281240"/>
              <a:ext cx="6045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Balance for young animals (Inpani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962520" y="1930320"/>
            <a:ext cx="4051080" cy="2652840"/>
            <a:chOff x="3962520" y="1930320"/>
            <a:chExt cx="4051080" cy="2652840"/>
          </a:xfrm>
        </p:grpSpPr>
        <p:sp>
          <p:nvSpPr>
            <p:cNvPr id="768" name=""/>
            <p:cNvSpPr/>
            <p:nvPr/>
          </p:nvSpPr>
          <p:spPr>
            <a:xfrm>
              <a:off x="6286680" y="1930320"/>
              <a:ext cx="1726920" cy="95256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6184800" y="3085920"/>
              <a:ext cx="635040" cy="888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62520" y="4037040"/>
              <a:ext cx="3340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Prices for young animal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6715-27C3-4848-B229-79B483FAF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- Supply bala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003320" y="1281240"/>
            <a:ext cx="6640560" cy="2073240"/>
            <a:chOff x="1003320" y="1281240"/>
            <a:chExt cx="6640560" cy="2073240"/>
          </a:xfrm>
        </p:grpSpPr>
        <mc:AlternateContent>
          <mc:Choice xmlns:a14="http://schemas.microsoft.com/office/drawing/2010/main" Requires="a14">
            <p:sp>
              <p:nvSpPr>
                <p:cNvPr id="773" name=""/>
                <p:cNvSpPr txBox="1"/>
                <p:nvPr/>
              </p:nvSpPr>
              <p:spPr>
                <a:xfrm>
                  <a:off x="1066680" y="1909800"/>
                  <a:ext cx="6577200" cy="14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ttr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ms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anuse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ms</m:t>
                              </m:r>
                            </m:sub>
                          </m:sSub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eed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dus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eed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fedus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pact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v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pact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pac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ms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ms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4" name=""/>
            <p:cNvSpPr/>
            <p:nvPr/>
          </p:nvSpPr>
          <p:spPr>
            <a:xfrm>
              <a:off x="1003320" y="1281240"/>
              <a:ext cx="6045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Supply balance (Supbal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483080" y="2387520"/>
            <a:ext cx="3314880" cy="2602080"/>
            <a:chOff x="4483080" y="2387520"/>
            <a:chExt cx="3314880" cy="2602080"/>
          </a:xfrm>
        </p:grpSpPr>
        <p:sp>
          <p:nvSpPr>
            <p:cNvPr id="776" name=""/>
            <p:cNvSpPr/>
            <p:nvPr/>
          </p:nvSpPr>
          <p:spPr>
            <a:xfrm>
              <a:off x="6794640" y="2387520"/>
              <a:ext cx="1003320" cy="95256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362640" y="3505320"/>
              <a:ext cx="720720" cy="876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83080" y="4443480"/>
              <a:ext cx="328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Prices of product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E1E7-21B2-4C70-9159-8DFDC1AE3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roduction Quot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troduce a new restrictio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ttrd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Arial"/>
              </a:rPr>
              <a:t>om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ks for mil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gar regime requires more complex approach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85BF-7B21-42F6-905A-F098462CEF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831320" y="33336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 components of the CM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2000" y="1795320"/>
            <a:ext cx="6193080" cy="31917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2 Quota system (A and 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3 prices for sugar beets (A,B and C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prohibitive tariffs to avoid sugar impor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Preferential imports from certain countr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(ACP countries, India, Western Balkans, Brazil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216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Intervention combined with subsidised exports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D63F-291F-4EE7-A9FC-EE7B6C75CCFA}" type="slidenum">
              <a:t>16</a:t>
            </a:fld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0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094400" y="225360"/>
            <a:ext cx="66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ugar production in the EU15 (A398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642160" cy="468000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1690200" y="1306440"/>
            <a:ext cx="1081080" cy="790560"/>
            <a:chOff x="1690200" y="1306440"/>
            <a:chExt cx="1081080" cy="790560"/>
          </a:xfrm>
        </p:grpSpPr>
        <p:sp>
          <p:nvSpPr>
            <p:cNvPr id="786" name=""/>
            <p:cNvSpPr/>
            <p:nvPr/>
          </p:nvSpPr>
          <p:spPr>
            <a:xfrm rot="5400000">
              <a:off x="2050560" y="1376280"/>
              <a:ext cx="360360" cy="10810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58320" y="130644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52%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690200" y="2674800"/>
            <a:ext cx="2089080" cy="1078920"/>
            <a:chOff x="1690200" y="2674800"/>
            <a:chExt cx="2089080" cy="1078920"/>
          </a:xfrm>
        </p:grpSpPr>
        <p:sp>
          <p:nvSpPr>
            <p:cNvPr id="789" name=""/>
            <p:cNvSpPr/>
            <p:nvPr/>
          </p:nvSpPr>
          <p:spPr>
            <a:xfrm rot="5400000">
              <a:off x="2488680" y="2463120"/>
              <a:ext cx="491760" cy="2089080"/>
            </a:xfrm>
            <a:custGeom>
              <a:avLst/>
              <a:gdLst>
                <a:gd name="textAreaLeft" fmla="*/ 314280 w 491760"/>
                <a:gd name="textAreaRight" fmla="*/ 491760 w 49176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61600" y="267480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71%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761840" y="3035160"/>
            <a:ext cx="3454920" cy="1221840"/>
            <a:chOff x="1761840" y="3035160"/>
            <a:chExt cx="3454920" cy="1221840"/>
          </a:xfrm>
        </p:grpSpPr>
        <p:sp>
          <p:nvSpPr>
            <p:cNvPr id="792" name=""/>
            <p:cNvSpPr/>
            <p:nvPr/>
          </p:nvSpPr>
          <p:spPr>
            <a:xfrm rot="5400000">
              <a:off x="3210840" y="2250720"/>
              <a:ext cx="556920" cy="3454920"/>
            </a:xfrm>
            <a:custGeom>
              <a:avLst/>
              <a:gdLst>
                <a:gd name="textAreaLeft" fmla="*/ 356040 w 556920"/>
                <a:gd name="textAreaRight" fmla="*/ 557280 w 556920"/>
                <a:gd name="textAreaTop" fmla="*/ 90000 h 3454920"/>
                <a:gd name="textAreaBottom" fmla="*/ 3364920 h 345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11480" y="30351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88%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11880" y="195264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2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22880" y="2421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2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67400" y="37180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86440" y="39988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3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39040" y="42228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1680" y="42940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0800" y="429264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1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94880" y="450864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28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34520" y="46162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2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31400" y="47260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913440" y="4653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-1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484040" y="46911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094960" y="47260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+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4FD2-9BF7-4315-A47C-D68B31CDD957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831040" y="225360"/>
            <a:ext cx="48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quota/levy mechan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1628640"/>
            <a:ext cx="6624720" cy="410544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71640" y="5373720"/>
            <a:ext cx="5796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71640" y="2565360"/>
            <a:ext cx="3600360" cy="2808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 quota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Arial"/>
              </a:rPr>
              <a:t>~ domestic deman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2565360"/>
            <a:ext cx="863640" cy="2808360"/>
          </a:xfrm>
          <a:prstGeom prst="rect">
            <a:avLst/>
          </a:prstGeom>
          <a:solidFill>
            <a:srgbClr val="b7f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B quot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971280" y="2060640"/>
            <a:ext cx="360360" cy="504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87480" y="1828800"/>
            <a:ext cx="250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Intervention price for sugar P</a:t>
            </a:r>
            <a:r>
              <a:rPr b="1" lang="en-US" sz="1400" spc="-1" strike="noStrike" baseline="-25000">
                <a:solidFill>
                  <a:srgbClr val="0033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40760" y="48690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Sugar world market pri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>
            <a:off x="971280" y="4581000"/>
            <a:ext cx="215640" cy="28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5080" y="17002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Pric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2565360"/>
            <a:ext cx="863640" cy="20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971640" y="2565360"/>
            <a:ext cx="4464000" cy="1224000"/>
            <a:chOff x="971640" y="2565360"/>
            <a:chExt cx="4464000" cy="1224000"/>
          </a:xfrm>
        </p:grpSpPr>
        <p:sp>
          <p:nvSpPr>
            <p:cNvPr id="819" name=""/>
            <p:cNvSpPr/>
            <p:nvPr/>
          </p:nvSpPr>
          <p:spPr>
            <a:xfrm>
              <a:off x="971640" y="2565360"/>
              <a:ext cx="4464000" cy="14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72000" y="2565360"/>
              <a:ext cx="863280" cy="1224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Levy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435640" y="4581360"/>
            <a:ext cx="118908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 sug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71640" y="4581360"/>
            <a:ext cx="576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71640" y="2565360"/>
            <a:ext cx="576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61120" y="53737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Sugar quantiti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971640" y="1989000"/>
            <a:ext cx="0" cy="3384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971280" y="3789360"/>
            <a:ext cx="576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971280" y="2708280"/>
            <a:ext cx="576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76680" y="2908440"/>
            <a:ext cx="1328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A beet price P</a:t>
            </a:r>
            <a:r>
              <a:rPr b="1" lang="en-US" sz="1400" spc="-1" strike="noStrike" baseline="-25000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75960" y="3268800"/>
            <a:ext cx="131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B beet price P</a:t>
            </a:r>
            <a:r>
              <a:rPr b="1" lang="en-US" sz="1400" spc="-1" strike="noStrike" baseline="-25000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971280" y="3573360"/>
            <a:ext cx="14436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971280" y="2673360"/>
            <a:ext cx="14436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43640" y="3033720"/>
            <a:ext cx="215640" cy="216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76680" y="4060800"/>
            <a:ext cx="1328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C beet price P</a:t>
            </a:r>
            <a:r>
              <a:rPr b="1" lang="en-US" sz="1400" spc="-1" strike="noStrike" baseline="-25000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971280" y="4365720"/>
            <a:ext cx="14436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885F-5E81-4583-9DE0-F0337358DC1F}" type="slidenum">
              <a:t>18</a:t>
            </a:fld>
          </a:p>
        </p:txBody>
      </p:sp>
    </p:spTree>
  </p:cSld>
  <p:transition>
    <p:dissolv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L 0.14184 -4.81481E-006 E">
                                      <p:cBhvr>
                                        <p:cTn id="317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95280" y="1233360"/>
            <a:ext cx="507672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9280" y="1052640"/>
            <a:ext cx="6769080" cy="5113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2698b">
                  <a:alpha val="41176"/>
                </a:srgbClr>
              </a:gs>
              <a:gs pos="50000">
                <a:srgbClr val="93bcf9">
                  <a:alpha val="0"/>
                </a:srgbClr>
              </a:gs>
              <a:gs pos="100000">
                <a:srgbClr val="52698b">
                  <a:alpha val="41176"/>
                </a:srgbClr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913480" y="25704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rofit maximis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0920" y="4257720"/>
            <a:ext cx="65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General agreement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arginal production costs exceed C beet pric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rofit maximising behaviour insufficient to explain observed production quantities in most EU countri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89040" y="2600280"/>
            <a:ext cx="19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Marginal production 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costs = p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C 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49000" y="1521000"/>
            <a:ext cx="4059360" cy="2556360"/>
            <a:chOff x="549000" y="1521000"/>
            <a:chExt cx="4059360" cy="2556360"/>
          </a:xfrm>
        </p:grpSpPr>
        <p:grpSp>
          <p:nvGrpSpPr>
            <p:cNvPr id="841" name=""/>
            <p:cNvGrpSpPr/>
            <p:nvPr/>
          </p:nvGrpSpPr>
          <p:grpSpPr>
            <a:xfrm>
              <a:off x="549000" y="1521000"/>
              <a:ext cx="4059360" cy="2556360"/>
              <a:chOff x="549000" y="1521000"/>
              <a:chExt cx="4059360" cy="255636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971640" y="1521000"/>
                <a:ext cx="0" cy="1908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971640" y="3753000"/>
                <a:ext cx="36367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971640" y="1989000"/>
                <a:ext cx="1368360" cy="1764000"/>
              </a:xfrm>
              <a:prstGeom prst="rect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0000" y="2600280"/>
                <a:ext cx="431640" cy="1152720"/>
              </a:xfrm>
              <a:prstGeom prst="rect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71640" y="3213000"/>
                <a:ext cx="35290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71640" y="2600280"/>
                <a:ext cx="35290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71640" y="1989000"/>
                <a:ext cx="35290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178000" y="3740040"/>
                <a:ext cx="3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q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624760" y="3740040"/>
                <a:ext cx="51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q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A+B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9000" y="29973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1560" y="238428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0640" y="1773360"/>
                <a:ext cx="3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065760" y="37400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3203640" y="1989000"/>
                <a:ext cx="0" cy="1764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3143160" y="3164040"/>
              <a:ext cx="108000" cy="10764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7127280" y="4797360"/>
            <a:ext cx="1873080" cy="151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e8e71">
                  <a:alpha val="71372"/>
                </a:srgbClr>
              </a:gs>
              <a:gs pos="50000">
                <a:srgbClr val="ffffcc">
                  <a:alpha val="73333"/>
                </a:srgbClr>
              </a:gs>
              <a:gs pos="100000">
                <a:srgbClr val="8e8e71">
                  <a:alpha val="71372"/>
                </a:srgbClr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A,B,C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  = A,B,C beet 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A,A+B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  = A and A+B quota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= observed suppl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59240" y="37530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Sugar beet produc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61800" y="1268280"/>
            <a:ext cx="10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Sugar beet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9CAF-0E0E-4563-98EC-837F2067840A}" type="slidenum">
              <a:t>19</a:t>
            </a:fld>
          </a:p>
        </p:txBody>
      </p:sp>
    </p:spTree>
  </p:cSld>
  <p:transition>
    <p:dissolv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locks of Restric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7960" y="1052640"/>
            <a:ext cx="83440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xed Resources: arable land, grass lan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e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ertiliz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Young animal bala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ly bala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licy restrictions: set asid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duction quotas (milk, sugar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2AEF-21FC-4727-9AD4-03E2ED228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79280" y="1125360"/>
            <a:ext cx="6769080" cy="511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2698b">
                  <a:alpha val="41176"/>
                </a:srgbClr>
              </a:gs>
              <a:gs pos="50000">
                <a:srgbClr val="93bcf9">
                  <a:alpha val="44313"/>
                </a:srgbClr>
              </a:gs>
              <a:gs pos="100000">
                <a:srgbClr val="52698b">
                  <a:alpha val="41176"/>
                </a:srgbClr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30600" y="297000"/>
            <a:ext cx="53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ected Profit maximis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0920" y="4257720"/>
            <a:ext cx="65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ossibility to reconcile higher marginal cost with observed production bu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High C sugar shares still unexplain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5280" y="1233360"/>
            <a:ext cx="640872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49000" y="1521000"/>
            <a:ext cx="4059360" cy="2556360"/>
            <a:chOff x="549000" y="1521000"/>
            <a:chExt cx="4059360" cy="2556360"/>
          </a:xfrm>
        </p:grpSpPr>
        <p:grpSp>
          <p:nvGrpSpPr>
            <p:cNvPr id="865" name=""/>
            <p:cNvGrpSpPr/>
            <p:nvPr/>
          </p:nvGrpSpPr>
          <p:grpSpPr>
            <a:xfrm>
              <a:off x="549000" y="1521000"/>
              <a:ext cx="4059360" cy="2556360"/>
              <a:chOff x="549000" y="1521000"/>
              <a:chExt cx="4059360" cy="2556360"/>
            </a:xfrm>
          </p:grpSpPr>
          <p:sp>
            <p:nvSpPr>
              <p:cNvPr id="866" name=""/>
              <p:cNvSpPr/>
              <p:nvPr/>
            </p:nvSpPr>
            <p:spPr>
              <a:xfrm flipV="1">
                <a:off x="971640" y="1521000"/>
                <a:ext cx="0" cy="1908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971640" y="3753000"/>
                <a:ext cx="36367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971640" y="1989000"/>
                <a:ext cx="1368360" cy="1764000"/>
              </a:xfrm>
              <a:prstGeom prst="rect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340000" y="2600280"/>
                <a:ext cx="431640" cy="1152720"/>
              </a:xfrm>
              <a:prstGeom prst="rect">
                <a:avLst/>
              </a:pr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971640" y="3213000"/>
                <a:ext cx="35290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971640" y="2600280"/>
                <a:ext cx="35290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71640" y="1989000"/>
                <a:ext cx="352908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178000" y="3740040"/>
                <a:ext cx="3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q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24760" y="3740040"/>
                <a:ext cx="51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q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A+B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9000" y="29973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01560" y="238428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0640" y="1773360"/>
                <a:ext cx="3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065760" y="37400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en-GB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3203640" y="1989000"/>
                <a:ext cx="0" cy="1764000"/>
              </a:xfrm>
              <a:prstGeom prst="line">
                <a:avLst/>
              </a:prstGeom>
              <a:ln w="1908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3143160" y="31640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675240" y="37530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Sugar beet produc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1800" y="1268280"/>
            <a:ext cx="10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Sugar beet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718800" y="2637000"/>
            <a:ext cx="310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Marginal production 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costs = expected marginal revenue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74280" y="1555200"/>
            <a:ext cx="3978720" cy="2304000"/>
            <a:chOff x="674280" y="1555200"/>
            <a:chExt cx="3978720" cy="2304000"/>
          </a:xfrm>
        </p:grpSpPr>
        <p:grpSp>
          <p:nvGrpSpPr>
            <p:cNvPr id="885" name=""/>
            <p:cNvGrpSpPr/>
            <p:nvPr/>
          </p:nvGrpSpPr>
          <p:grpSpPr>
            <a:xfrm>
              <a:off x="674280" y="1555200"/>
              <a:ext cx="3978720" cy="2304000"/>
              <a:chOff x="674280" y="1555200"/>
              <a:chExt cx="3978720" cy="2304000"/>
            </a:xfrm>
          </p:grpSpPr>
          <p:sp>
            <p:nvSpPr>
              <p:cNvPr id="886" name=""/>
              <p:cNvSpPr/>
              <p:nvPr/>
            </p:nvSpPr>
            <p:spPr>
              <a:xfrm>
                <a:off x="971640" y="1989000"/>
                <a:ext cx="720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05040" y="3213000"/>
                <a:ext cx="720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74280" y="1989000"/>
                <a:ext cx="2036160" cy="187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548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54890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2617560" y="1554840"/>
                <a:ext cx="2035440" cy="165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548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54890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3143160" y="30686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67160" y="1989000"/>
            <a:ext cx="342360" cy="2088360"/>
            <a:chOff x="3467160" y="1989000"/>
            <a:chExt cx="342360" cy="2088360"/>
          </a:xfrm>
        </p:grpSpPr>
        <p:grpSp>
          <p:nvGrpSpPr>
            <p:cNvPr id="892" name=""/>
            <p:cNvGrpSpPr/>
            <p:nvPr/>
          </p:nvGrpSpPr>
          <p:grpSpPr>
            <a:xfrm>
              <a:off x="3467160" y="1989000"/>
              <a:ext cx="342360" cy="2088360"/>
              <a:chOff x="3467160" y="1989000"/>
              <a:chExt cx="342360" cy="208836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3635280" y="1989000"/>
                <a:ext cx="0" cy="1765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467160" y="37400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de-DE" sz="1600" spc="-1" strike="noStrike" baseline="30000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 flipV="1">
              <a:off x="3564000" y="3141720"/>
              <a:ext cx="14616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 flipH="1">
            <a:off x="7020000" y="4797360"/>
            <a:ext cx="2124000" cy="151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e8e71">
                  <a:alpha val="71372"/>
                </a:srgbClr>
              </a:gs>
              <a:gs pos="50000">
                <a:srgbClr val="ffffcc">
                  <a:alpha val="73333"/>
                </a:srgbClr>
              </a:gs>
              <a:gs pos="100000">
                <a:srgbClr val="8e8e71">
                  <a:alpha val="71372"/>
                </a:srgbClr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A,B,C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  = A,B,C beet 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A,A+B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  = A and A+B quota</a:t>
            </a:r>
            <a:br>
              <a:rPr sz="1600"/>
            </a:b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GB" sz="1600" spc="-1" strike="noStrike" baseline="30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= observed suppl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51640" y="1328760"/>
            <a:ext cx="18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EMR depends on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Pri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Quota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00"/>
                </a:solidFill>
                <a:latin typeface="Times New Roman"/>
              </a:rPr>
              <a:t>Yield varian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40720" y="1376280"/>
            <a:ext cx="2401200" cy="505080"/>
            <a:chOff x="1440720" y="1376280"/>
            <a:chExt cx="2401200" cy="505080"/>
          </a:xfrm>
        </p:grpSpPr>
        <p:sp>
          <p:nvSpPr>
            <p:cNvPr id="899" name=""/>
            <p:cNvSpPr/>
            <p:nvPr/>
          </p:nvSpPr>
          <p:spPr>
            <a:xfrm>
              <a:off x="1440720" y="1376280"/>
              <a:ext cx="24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Times New Roman"/>
                </a:rPr>
                <a:t>Expected marginal revenu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763640" y="1628640"/>
              <a:ext cx="216000" cy="252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5236-4D49-432B-BFC7-807F628AE714}" type="slidenum">
              <a:t>20</a:t>
            </a:fld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79280" y="1268280"/>
            <a:ext cx="6769080" cy="511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2698b">
                  <a:alpha val="41176"/>
                </a:srgbClr>
              </a:gs>
              <a:gs pos="50000">
                <a:srgbClr val="93bcf9">
                  <a:alpha val="44313"/>
                </a:srgbClr>
              </a:gs>
              <a:gs pos="100000">
                <a:srgbClr val="52698b">
                  <a:alpha val="41176"/>
                </a:srgbClr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326600" y="3333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ifting expected marginal revenu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6984360" y="4834080"/>
            <a:ext cx="2158920" cy="154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8e8e71">
                  <a:alpha val="71372"/>
                </a:srgbClr>
              </a:gs>
              <a:gs pos="50000">
                <a:srgbClr val="ffffcc">
                  <a:alpha val="72156"/>
                </a:srgbClr>
              </a:gs>
              <a:gs pos="100000">
                <a:srgbClr val="8e8e71">
                  <a:alpha val="71372"/>
                </a:srgbClr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GB" sz="1500" spc="-1" strike="noStrike" baseline="30000">
                <a:solidFill>
                  <a:srgbClr val="ffff00"/>
                </a:solidFill>
                <a:latin typeface="Times New Roman"/>
              </a:rPr>
              <a:t>A,B,C</a:t>
            </a: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 = A,B,C beet prices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MC</a:t>
            </a:r>
            <a:r>
              <a:rPr b="0" lang="en-GB" sz="1500" spc="-1" strike="noStrike" baseline="-25000">
                <a:solidFill>
                  <a:srgbClr val="ffff00"/>
                </a:solidFill>
                <a:latin typeface="Times New Roman"/>
              </a:rPr>
              <a:t>est</a:t>
            </a: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 = marginal cost </a:t>
            </a:r>
            <a:br>
              <a:rPr sz="1500"/>
            </a:b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             (estimates)</a:t>
            </a:r>
            <a:br>
              <a:rPr sz="1500"/>
            </a:b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EMR = expected 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marginal revenues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Times New Roman"/>
              </a:rPr>
              <a:t>X = sugar beet supply</a:t>
            </a:r>
            <a:r>
              <a:rPr b="0" lang="en-GB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9280" y="5840280"/>
            <a:ext cx="65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Assumption: Yield underestim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6000" y="1341360"/>
            <a:ext cx="66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58920" y="1484280"/>
            <a:ext cx="63738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41400" y="2104920"/>
            <a:ext cx="1793880" cy="271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736720" y="3309840"/>
            <a:ext cx="935280" cy="1532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764640" y="2095560"/>
            <a:ext cx="2048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773280" y="3284640"/>
            <a:ext cx="20448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764640" y="4265640"/>
            <a:ext cx="20484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22280" y="193824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GB" sz="2000" spc="-1" strike="noStrike" baseline="30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21200" y="2854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GB" sz="20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22280" y="4110120"/>
            <a:ext cx="4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GB" sz="20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941400" y="4834080"/>
            <a:ext cx="5754600" cy="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941400" y="1722240"/>
            <a:ext cx="1440" cy="3119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9240" y="149688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eet pr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941400" y="4220640"/>
            <a:ext cx="5683320" cy="1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941400" y="2097000"/>
            <a:ext cx="5754600" cy="7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41400" y="2106720"/>
            <a:ext cx="4459320" cy="2131920"/>
          </a:xfrm>
          <a:custGeom>
            <a:avLst/>
            <a:gdLst/>
            <a:ahLst/>
            <a:rect l="l" t="t" r="r" b="b"/>
            <a:pathLst>
              <a:path w="1951" h="1043">
                <a:moveTo>
                  <a:pt x="0" y="0"/>
                </a:moveTo>
                <a:cubicBezTo>
                  <a:pt x="276" y="19"/>
                  <a:pt x="552" y="38"/>
                  <a:pt x="726" y="136"/>
                </a:cubicBezTo>
                <a:cubicBezTo>
                  <a:pt x="900" y="234"/>
                  <a:pt x="930" y="453"/>
                  <a:pt x="1043" y="589"/>
                </a:cubicBezTo>
                <a:cubicBezTo>
                  <a:pt x="1156" y="725"/>
                  <a:pt x="1255" y="876"/>
                  <a:pt x="1406" y="952"/>
                </a:cubicBezTo>
                <a:cubicBezTo>
                  <a:pt x="1557" y="1028"/>
                  <a:pt x="1860" y="1028"/>
                  <a:pt x="1951" y="104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751280" y="2529000"/>
            <a:ext cx="1800" cy="23540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81360" y="49053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GB" sz="1600" spc="-1" strike="noStrike" baseline="30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56000" y="5024520"/>
            <a:ext cx="4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en-GB" sz="1600" spc="-1" strike="noStrike" baseline="30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48000" y="502452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en-GB" sz="1600" spc="-1" strike="noStrike" baseline="30000">
                <a:solidFill>
                  <a:srgbClr val="ffff00"/>
                </a:solidFill>
                <a:latin typeface="Times New Roman"/>
              </a:rPr>
              <a:t>A+B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35280" y="4842000"/>
            <a:ext cx="0" cy="207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672000" y="4842000"/>
            <a:ext cx="0" cy="171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3640" y="161460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EMR</a:t>
            </a:r>
            <a:r>
              <a:rPr b="1" lang="en-GB" sz="1600" spc="-1" strike="noStrike" baseline="30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482920" y="1808280"/>
            <a:ext cx="1440" cy="43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2124000" y="3719520"/>
            <a:ext cx="3132360" cy="393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48280" y="3284640"/>
            <a:ext cx="56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MC</a:t>
            </a:r>
            <a:r>
              <a:rPr b="1" lang="de-DE" sz="1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619600" y="495288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eet suppl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80000" y="3597120"/>
            <a:ext cx="910800" cy="337320"/>
            <a:chOff x="4680000" y="3597120"/>
            <a:chExt cx="910800" cy="337320"/>
          </a:xfrm>
        </p:grpSpPr>
        <p:sp>
          <p:nvSpPr>
            <p:cNvPr id="933" name=""/>
            <p:cNvSpPr/>
            <p:nvPr/>
          </p:nvSpPr>
          <p:spPr>
            <a:xfrm>
              <a:off x="4845240" y="3597120"/>
              <a:ext cx="74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Times New Roman"/>
                </a:rPr>
                <a:t>MC</a:t>
              </a:r>
              <a:r>
                <a:rPr b="1" lang="en-GB" sz="1600" spc="-1" strike="noStrike" baseline="30000">
                  <a:solidFill>
                    <a:srgbClr val="ffff00"/>
                  </a:solidFill>
                  <a:latin typeface="Times New Roman"/>
                </a:rPr>
                <a:t>est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80000" y="3870000"/>
              <a:ext cx="165240" cy="5400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4844880" y="3760560"/>
              <a:ext cx="83160" cy="54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886200" y="2492280"/>
            <a:ext cx="1440" cy="235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45000" y="485604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GB" sz="1600" spc="-1" strike="noStrike" baseline="30000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40F2-48B7-4451-9C58-1CB38EB52609}" type="slidenum">
              <a:t>21</a:t>
            </a:fld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-0.09705 -0.00185 E">
                                      <p:cBhvr>
                                        <p:cTn id="458" dur="2000" fill="hold"/>
                                        <p:tgtEl>
                                          <p:spTgt spid="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819720" y="44280"/>
            <a:ext cx="74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n expected profit maximisation expl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bserved C sugar quantities (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2920" y="1376280"/>
            <a:ext cx="6697440" cy="356544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6000" y="1773360"/>
            <a:ext cx="65880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Assume each EU Member State is a single farm faced wit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the national quota endow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national average pric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national average yield variation (FAD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3300"/>
                </a:solidFill>
                <a:latin typeface="Times New Roman"/>
              </a:rPr>
              <a:t>national average marginal costs (Estimat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1BC5-F59E-45C0-BF7E-A7668AF517E1}" type="slidenum">
              <a:t>22</a:t>
            </a:fld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9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5904000" cy="51152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1035360" y="333360"/>
            <a:ext cx="75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hange in regional sugar beet productio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1923840" cy="148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E446-8780-4B07-A191-D48D2039AE8C}" type="slidenum">
              <a:t>23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Blocks of Restric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84040" y="1589040"/>
          <a:ext cx="8852040" cy="605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1589040"/>
                    <a:ext cx="885204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33FE-4F98-4094-94D9-9AC1271C8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strictions - Land + Polic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015920" y="1319040"/>
            <a:ext cx="4584960" cy="2248200"/>
            <a:chOff x="1015920" y="1319040"/>
            <a:chExt cx="4584960" cy="2248200"/>
          </a:xfrm>
        </p:grpSpPr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133640" y="2048040"/>
                  <a:ext cx="431640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rbact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v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bact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UAAR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GRAS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ab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grsact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ev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rsact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GRAS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ras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1015920" y="1319040"/>
              <a:ext cx="4584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Fixed resources (Area_, Grasa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015920" y="3719520"/>
            <a:ext cx="6438960" cy="1930320"/>
            <a:chOff x="1015920" y="3719520"/>
            <a:chExt cx="6438960" cy="1930320"/>
          </a:xfrm>
        </p:grpSpPr>
        <p:sp>
          <p:nvSpPr>
            <p:cNvPr id="641" name=""/>
            <p:cNvSpPr/>
            <p:nvPr/>
          </p:nvSpPr>
          <p:spPr>
            <a:xfrm>
              <a:off x="1015920" y="3719520"/>
              <a:ext cx="6438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Policy restrictions: set aside (Mxseta_, Seta_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1542960" y="4357800"/>
                  <a:ext cx="5678640" cy="12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rbact</m:t>
                              </m:r>
                            </m:sub>
                            <m:sup/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evl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rbact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01</m:t>
                                          </m:r>
                                          <m:r>
                                            <m:t xml:space="preserve">∗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ETR</m:t>
                                          </m:r>
                                        </m:num>
                                        <m:den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01</m:t>
                                          </m:r>
                                          <m:r>
                                            <m:t xml:space="preserve">∗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ETR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d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v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t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v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onf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eta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v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t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v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onf</m:t>
                              </m:r>
                            </m:sub>
                          </m:sSub>
                          <m:r>
                            <m:t xml:space="preserve">&lt;</m:t>
                          </m:r>
                          <m:f>
                            <m:fPr>
                              <m:type m:val="lin"/>
                            </m:fPr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rcu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evl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rcu</m:t>
                                      </m:r>
                                    </m:sub>
                                  </m:sSub>
                                </m:e>
                              </m:nary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9D3E-81C8-4D0F-BC67-A287DE5CAB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-, P-, K-balan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62000" y="203364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erd siz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2000" y="311472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Manure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er Hea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72000" y="378936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Supply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to cro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rodu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72000" y="194328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Loss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62000" y="4194000"/>
            <a:ext cx="1440000" cy="8114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Mine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rtiliz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urcha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67000" y="261936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, P, K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roduction b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animal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86640" y="441972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xport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with harves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86640" y="324972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Over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rtil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82000" y="19432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9" idx="1"/>
          </p:cNvCxnSpPr>
          <p:nvPr/>
        </p:nvCxnSpPr>
        <p:spPr>
          <a:xfrm flipV="1">
            <a:off x="2501640" y="3025440"/>
            <a:ext cx="765720" cy="496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4" idx="3"/>
            <a:endCxn id="649" idx="1"/>
          </p:cNvCxnSpPr>
          <p:nvPr/>
        </p:nvCxnSpPr>
        <p:spPr>
          <a:xfrm>
            <a:off x="2501640" y="2439720"/>
            <a:ext cx="765720" cy="5864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6" idx="3"/>
            <a:endCxn id="651" idx="1"/>
          </p:cNvCxnSpPr>
          <p:nvPr/>
        </p:nvCxnSpPr>
        <p:spPr>
          <a:xfrm flipV="1">
            <a:off x="6912000" y="3655440"/>
            <a:ext cx="675360" cy="5403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7" idx="3"/>
            <a:endCxn id="652" idx="1"/>
          </p:cNvCxnSpPr>
          <p:nvPr/>
        </p:nvCxnSpPr>
        <p:spPr>
          <a:xfrm flipV="1">
            <a:off x="6912000" y="2323800"/>
            <a:ext cx="1170720" cy="25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6" idx="3"/>
            <a:endCxn id="650" idx="1"/>
          </p:cNvCxnSpPr>
          <p:nvPr/>
        </p:nvCxnSpPr>
        <p:spPr>
          <a:xfrm>
            <a:off x="6912000" y="4195440"/>
            <a:ext cx="675360" cy="63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9" idx="3"/>
            <a:endCxn id="647" idx="1"/>
          </p:cNvCxnSpPr>
          <p:nvPr/>
        </p:nvCxnSpPr>
        <p:spPr>
          <a:xfrm flipV="1">
            <a:off x="4706640" y="2348640"/>
            <a:ext cx="7657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9" idx="3"/>
            <a:endCxn id="646" idx="1"/>
          </p:cNvCxnSpPr>
          <p:nvPr/>
        </p:nvCxnSpPr>
        <p:spPr>
          <a:xfrm>
            <a:off x="4706640" y="3025800"/>
            <a:ext cx="765720" cy="11707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48" idx="3"/>
            <a:endCxn id="646" idx="1"/>
          </p:cNvCxnSpPr>
          <p:nvPr/>
        </p:nvCxnSpPr>
        <p:spPr>
          <a:xfrm flipV="1">
            <a:off x="2502000" y="4195440"/>
            <a:ext cx="2970720" cy="4053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51" idx="0"/>
            <a:endCxn id="652" idx="2"/>
          </p:cNvCxnSpPr>
          <p:nvPr/>
        </p:nvCxnSpPr>
        <p:spPr>
          <a:xfrm flipV="1">
            <a:off x="8307000" y="2704320"/>
            <a:ext cx="1080" cy="5454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4848840" y="294012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availability” facto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2000" y="5319720"/>
            <a:ext cx="1440000" cy="811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iologic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3" idx="3"/>
            <a:endCxn id="646" idx="1"/>
          </p:cNvCxnSpPr>
          <p:nvPr/>
        </p:nvCxnSpPr>
        <p:spPr>
          <a:xfrm flipV="1">
            <a:off x="2502000" y="4195080"/>
            <a:ext cx="2970720" cy="153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>
            <a:off x="6985440" y="40654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overfertilization” facto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063F-1747-49A6-B7A7-F3F4811E3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ertilization modu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0560" y="1468440"/>
            <a:ext cx="8101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op activities demand nutrients which are partially supplied by animal activities (manure)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rops enter the equation as ‘consumers’, which need to cover their nitrogen needs through the application of fertilis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trient correction and nutrient availability factors are included and specified in order to calibrate observed data on national mineral fertiliser consumption and regional manure produc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ources and sinks of nitrogen in agriculture are introduced into the model (atmospheric deposition, biological fixation, …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orts and imports of nutrients are consider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6FCF-4C52-407E-95B9-E8B12B8980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mmonia modu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98680" y="2360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1158840"/>
            <a:ext cx="1905120" cy="1336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Nitrogen</a:t>
            </a:r>
            <a:br>
              <a:rPr sz="16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from animal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78160" y="5459400"/>
            <a:ext cx="1393920" cy="70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tal crop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 Nee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194680" y="5430960"/>
            <a:ext cx="826920" cy="699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180120" y="5430960"/>
            <a:ext cx="1381320" cy="699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Mineral 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5400000">
            <a:off x="5736240" y="5534640"/>
            <a:ext cx="233640" cy="457200"/>
          </a:xfrm>
          <a:prstGeom prst="downArrow">
            <a:avLst>
              <a:gd name="adj1" fmla="val 50000"/>
              <a:gd name="adj2" fmla="val 48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756920" y="5561280"/>
            <a:ext cx="233640" cy="457200"/>
          </a:xfrm>
          <a:prstGeom prst="downArrow">
            <a:avLst>
              <a:gd name="adj1" fmla="val 50000"/>
              <a:gd name="adj2" fmla="val 48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75280" y="1467000"/>
            <a:ext cx="1396800" cy="699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N losses on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razings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06600" y="2584440"/>
            <a:ext cx="233280" cy="457200"/>
          </a:xfrm>
          <a:prstGeom prst="downArrow">
            <a:avLst>
              <a:gd name="adj1" fmla="val 50000"/>
              <a:gd name="adj2" fmla="val 489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1000" y="3092400"/>
            <a:ext cx="1887480" cy="70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N losses in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5120" y="3097080"/>
            <a:ext cx="827280" cy="700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105680" y="1455840"/>
            <a:ext cx="826920" cy="699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3716640" y="1594080"/>
            <a:ext cx="233640" cy="457200"/>
          </a:xfrm>
          <a:prstGeom prst="downArrow">
            <a:avLst>
              <a:gd name="adj1" fmla="val 50000"/>
              <a:gd name="adj2" fmla="val 48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6241320" y="1178640"/>
            <a:ext cx="226800" cy="1285920"/>
          </a:xfrm>
          <a:prstGeom prst="downArrow">
            <a:avLst>
              <a:gd name="adj1" fmla="val 50000"/>
              <a:gd name="adj2" fmla="val 1417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5400000">
            <a:off x="1145520" y="3220200"/>
            <a:ext cx="233280" cy="457200"/>
          </a:xfrm>
          <a:prstGeom prst="downArrow">
            <a:avLst>
              <a:gd name="adj1" fmla="val 50000"/>
              <a:gd name="adj2" fmla="val 489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527120" y="4254480"/>
            <a:ext cx="1631880" cy="700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N losses in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storage systems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01960" y="3813120"/>
            <a:ext cx="233280" cy="403200"/>
          </a:xfrm>
          <a:prstGeom prst="downArrow">
            <a:avLst>
              <a:gd name="adj1" fmla="val 50000"/>
              <a:gd name="adj2" fmla="val 432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9000" y="4270320"/>
            <a:ext cx="826920" cy="700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5400000">
            <a:off x="1153440" y="4393440"/>
            <a:ext cx="233280" cy="457200"/>
          </a:xfrm>
          <a:prstGeom prst="downArrow">
            <a:avLst>
              <a:gd name="adj1" fmla="val 50000"/>
              <a:gd name="adj2" fmla="val 489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14560" y="5005440"/>
            <a:ext cx="233280" cy="403200"/>
          </a:xfrm>
          <a:prstGeom prst="downArrow">
            <a:avLst>
              <a:gd name="adj1" fmla="val 50000"/>
              <a:gd name="adj2" fmla="val 432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17760" y="5465880"/>
            <a:ext cx="1885680" cy="699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7f3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N losses in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manure application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24160" y="3855960"/>
            <a:ext cx="200160" cy="1533600"/>
          </a:xfrm>
          <a:prstGeom prst="downArrow">
            <a:avLst>
              <a:gd name="adj1" fmla="val 50000"/>
              <a:gd name="adj2" fmla="val 1915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3040" y="5446800"/>
            <a:ext cx="827280" cy="699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16200000">
            <a:off x="3674160" y="5587200"/>
            <a:ext cx="233280" cy="457200"/>
          </a:xfrm>
          <a:prstGeom prst="downArrow">
            <a:avLst>
              <a:gd name="adj1" fmla="val 50000"/>
              <a:gd name="adj2" fmla="val 489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5400000">
            <a:off x="1131120" y="5549040"/>
            <a:ext cx="233280" cy="457200"/>
          </a:xfrm>
          <a:prstGeom prst="downArrow">
            <a:avLst>
              <a:gd name="adj1" fmla="val 50000"/>
              <a:gd name="adj2" fmla="val 489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80080" y="2266920"/>
            <a:ext cx="182520" cy="3171960"/>
          </a:xfrm>
          <a:prstGeom prst="downArrow">
            <a:avLst>
              <a:gd name="adj1" fmla="val 50000"/>
              <a:gd name="adj2" fmla="val 434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51F1-94A2-471B-AFFD-F18FE14B57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libration step fertiliz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062000" y="2033640"/>
            <a:ext cx="1440000" cy="811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erd siz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62000" y="3114720"/>
            <a:ext cx="1440000" cy="811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Manure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er Hea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72000" y="378936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Supply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to cro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rodu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72000" y="194328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Loss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62000" y="4194000"/>
            <a:ext cx="1440000" cy="8114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Mine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rtiliz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urcha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67000" y="261936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, P, K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roduction b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animal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86640" y="4419720"/>
            <a:ext cx="1440000" cy="811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xport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with harves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586640" y="324972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Over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rtil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082000" y="19432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697" idx="3"/>
            <a:endCxn id="701" idx="1"/>
          </p:cNvCxnSpPr>
          <p:nvPr/>
        </p:nvCxnSpPr>
        <p:spPr>
          <a:xfrm flipV="1">
            <a:off x="2501640" y="3025440"/>
            <a:ext cx="765720" cy="496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6" idx="3"/>
            <a:endCxn id="701" idx="1"/>
          </p:cNvCxnSpPr>
          <p:nvPr/>
        </p:nvCxnSpPr>
        <p:spPr>
          <a:xfrm>
            <a:off x="2501640" y="2439720"/>
            <a:ext cx="765720" cy="5864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8" idx="3"/>
            <a:endCxn id="703" idx="1"/>
          </p:cNvCxnSpPr>
          <p:nvPr/>
        </p:nvCxnSpPr>
        <p:spPr>
          <a:xfrm flipV="1">
            <a:off x="6912000" y="3655440"/>
            <a:ext cx="675360" cy="5403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9" idx="3"/>
            <a:endCxn id="704" idx="1"/>
          </p:cNvCxnSpPr>
          <p:nvPr/>
        </p:nvCxnSpPr>
        <p:spPr>
          <a:xfrm flipV="1">
            <a:off x="6912000" y="2323800"/>
            <a:ext cx="1170720" cy="25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98" idx="3"/>
            <a:endCxn id="702" idx="1"/>
          </p:cNvCxnSpPr>
          <p:nvPr/>
        </p:nvCxnSpPr>
        <p:spPr>
          <a:xfrm>
            <a:off x="6912000" y="4195440"/>
            <a:ext cx="675360" cy="63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1" idx="3"/>
            <a:endCxn id="699" idx="1"/>
          </p:cNvCxnSpPr>
          <p:nvPr/>
        </p:nvCxnSpPr>
        <p:spPr>
          <a:xfrm flipV="1">
            <a:off x="4706640" y="2348640"/>
            <a:ext cx="7657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1" idx="3"/>
            <a:endCxn id="698" idx="1"/>
          </p:cNvCxnSpPr>
          <p:nvPr/>
        </p:nvCxnSpPr>
        <p:spPr>
          <a:xfrm>
            <a:off x="4706640" y="3025800"/>
            <a:ext cx="765720" cy="11707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0" idx="3"/>
            <a:endCxn id="698" idx="1"/>
          </p:cNvCxnSpPr>
          <p:nvPr/>
        </p:nvCxnSpPr>
        <p:spPr>
          <a:xfrm flipV="1">
            <a:off x="2502000" y="4195440"/>
            <a:ext cx="2970720" cy="4053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3" idx="0"/>
            <a:endCxn id="704" idx="2"/>
          </p:cNvCxnSpPr>
          <p:nvPr/>
        </p:nvCxnSpPr>
        <p:spPr>
          <a:xfrm flipV="1">
            <a:off x="8307000" y="2704320"/>
            <a:ext cx="1080" cy="5454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14" name=""/>
          <p:cNvSpPr/>
          <p:nvPr/>
        </p:nvSpPr>
        <p:spPr>
          <a:xfrm>
            <a:off x="4848840" y="294012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ccff66"/>
                </a:solidFill>
                <a:latin typeface="Tahoma"/>
              </a:rPr>
              <a:t>availability” facto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62000" y="5319720"/>
            <a:ext cx="1440000" cy="811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iologic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715" idx="3"/>
            <a:endCxn id="698" idx="1"/>
          </p:cNvCxnSpPr>
          <p:nvPr/>
        </p:nvCxnSpPr>
        <p:spPr>
          <a:xfrm flipV="1">
            <a:off x="2502000" y="4195080"/>
            <a:ext cx="2970720" cy="153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6985440" y="40654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66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ccff66"/>
                </a:solidFill>
                <a:latin typeface="Tahoma"/>
              </a:rPr>
              <a:t>overfertilization” facto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50240" y="540396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iven from statistics or engineering knowled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Calibrated to base year situ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F47D-A274-430E-B978-09F3181E56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unterfactual scenario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62000" y="203364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erd siz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0" y="3114720"/>
            <a:ext cx="1440000" cy="811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Manure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er Hea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72000" y="378936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Supply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to cro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rodu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472000" y="194328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Loss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62000" y="4194000"/>
            <a:ext cx="1440000" cy="811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Mine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rtiliz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urchas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67000" y="261936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, P, K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production b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animal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86640" y="441972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xport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with harves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86640" y="324972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Over-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ertil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82000" y="1943280"/>
            <a:ext cx="4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1" idx="3"/>
            <a:endCxn id="725" idx="1"/>
          </p:cNvCxnSpPr>
          <p:nvPr/>
        </p:nvCxnSpPr>
        <p:spPr>
          <a:xfrm flipV="1">
            <a:off x="2501640" y="3025440"/>
            <a:ext cx="765720" cy="496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20" idx="3"/>
            <a:endCxn id="725" idx="1"/>
          </p:cNvCxnSpPr>
          <p:nvPr/>
        </p:nvCxnSpPr>
        <p:spPr>
          <a:xfrm>
            <a:off x="2501640" y="2439720"/>
            <a:ext cx="765720" cy="5864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22" idx="3"/>
            <a:endCxn id="727" idx="1"/>
          </p:cNvCxnSpPr>
          <p:nvPr/>
        </p:nvCxnSpPr>
        <p:spPr>
          <a:xfrm flipV="1">
            <a:off x="6912000" y="3655440"/>
            <a:ext cx="675360" cy="5403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3" idx="3"/>
            <a:endCxn id="728" idx="1"/>
          </p:cNvCxnSpPr>
          <p:nvPr/>
        </p:nvCxnSpPr>
        <p:spPr>
          <a:xfrm flipV="1">
            <a:off x="6912000" y="2323800"/>
            <a:ext cx="1170720" cy="25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2" idx="3"/>
            <a:endCxn id="726" idx="1"/>
          </p:cNvCxnSpPr>
          <p:nvPr/>
        </p:nvCxnSpPr>
        <p:spPr>
          <a:xfrm>
            <a:off x="6912000" y="4195440"/>
            <a:ext cx="675360" cy="63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25" idx="3"/>
            <a:endCxn id="723" idx="1"/>
          </p:cNvCxnSpPr>
          <p:nvPr/>
        </p:nvCxnSpPr>
        <p:spPr>
          <a:xfrm flipV="1">
            <a:off x="4706640" y="2348640"/>
            <a:ext cx="7657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725" idx="3"/>
            <a:endCxn id="722" idx="1"/>
          </p:cNvCxnSpPr>
          <p:nvPr/>
        </p:nvCxnSpPr>
        <p:spPr>
          <a:xfrm>
            <a:off x="4706640" y="3025800"/>
            <a:ext cx="765720" cy="11707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724" idx="3"/>
            <a:endCxn id="722" idx="1"/>
          </p:cNvCxnSpPr>
          <p:nvPr/>
        </p:nvCxnSpPr>
        <p:spPr>
          <a:xfrm flipV="1">
            <a:off x="2502000" y="4195440"/>
            <a:ext cx="2970720" cy="4053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27" idx="0"/>
            <a:endCxn id="728" idx="2"/>
          </p:cNvCxnSpPr>
          <p:nvPr/>
        </p:nvCxnSpPr>
        <p:spPr>
          <a:xfrm flipV="1">
            <a:off x="8307000" y="2704320"/>
            <a:ext cx="1080" cy="5454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4848840" y="294012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6600"/>
                </a:solidFill>
                <a:latin typeface="Tahoma"/>
              </a:rPr>
              <a:t>availability” facto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62000" y="5319720"/>
            <a:ext cx="1440000" cy="81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iologic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ix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9" idx="3"/>
            <a:endCxn id="722" idx="1"/>
          </p:cNvCxnSpPr>
          <p:nvPr/>
        </p:nvCxnSpPr>
        <p:spPr>
          <a:xfrm flipV="1">
            <a:off x="2502000" y="4195080"/>
            <a:ext cx="2970720" cy="15310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6985440" y="40654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6600"/>
                </a:solidFill>
                <a:latin typeface="Tahoma"/>
              </a:rPr>
              <a:t>overfertilization” factor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6200" y="540396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Given from calibration step / engineering knowled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ndogen in model ru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0821-78D1-48DF-B24F-6AB8E477DA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5:56Z</dcterms:created>
  <dc:creator>Torbjörn Jansson</dc:creator>
  <dc:description/>
  <dc:language>en-US</dc:language>
  <cp:lastModifiedBy>Wolfgang 2</cp:lastModifiedBy>
  <cp:lastPrinted>2001-02-14T10:53:05Z</cp:lastPrinted>
  <dcterms:modified xsi:type="dcterms:W3CDTF">2008-10-23T07:00:39Z</dcterms:modified>
  <cp:revision>132</cp:revision>
  <dc:subject/>
  <dc:title>CAPRI Common Agricultural Policy Regional Imp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