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9260-49A3-4FF3-B753-067EBDDBC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2A83-7BE9-4515-8D1D-A73D5A224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EFD0-D96B-47E6-A17E-BFF961F67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D8C5-7F3E-4C72-BA9F-BB43877C3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657C-96D0-4075-B5D2-FB7D5B16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9486-F6DF-4324-97AF-1A44A0868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E6C0-AF5E-42EB-8919-D0101B240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95D2-8A34-4018-8736-26D63799C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4051-1462-4777-9BD7-A29F6703D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A8DB-CA7E-45CF-997B-4A042EC4C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2C59-A6EE-454F-AA3E-40E1B0E53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AD91-5A92-4AC1-9E74-4A4BA0668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3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17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18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411280" y="6582600"/>
            <a:ext cx="38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99"/>
                </a:solidFill>
                <a:latin typeface="Arial"/>
              </a:rPr>
              <a:t>CAPRI Training Session in Warzaw, June 26-30, 200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4A7-0747-4D6C-BCD5-92457D1B63B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74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88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89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105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385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emium payments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rbjörn Jansson*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6093000"/>
            <a:ext cx="187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*Corresponding author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+49-228-732323</a:t>
            </a:r>
            <a:br>
              <a:rPr sz="1000"/>
            </a:b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www.agp.uni-bonn.d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940360" y="6093000"/>
            <a:ext cx="30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Department for Economic and Agricultural Poli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Bonn Univers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Nussallee 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53115 Bonn, German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6093000"/>
            <a:ext cx="33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CAPRI Training Session in Warzaw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June 26-30, 200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</a:t>
            </a:r>
            <a:br>
              <a:rPr sz="32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mmon Agricultural Policy Regional Impa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ual values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ll outpu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Premium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Variable inpu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Value of fee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Young animal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N,P,K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Land balanc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Set asi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Quota rents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PMP level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+ PMP fee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= Unexplained rest (0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00720" y="4221000"/>
            <a:ext cx="411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port found in XML under “Dual values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9640" y="5661000"/>
            <a:ext cx="288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843280" y="1700280"/>
            <a:ext cx="588600" cy="1008000"/>
            <a:chOff x="2843280" y="1700280"/>
            <a:chExt cx="588600" cy="1008000"/>
          </a:xfrm>
        </p:grpSpPr>
        <p:sp>
          <p:nvSpPr>
            <p:cNvPr id="734" name=""/>
            <p:cNvSpPr/>
            <p:nvPr/>
          </p:nvSpPr>
          <p:spPr>
            <a:xfrm>
              <a:off x="2843280" y="1700280"/>
              <a:ext cx="217440" cy="10080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60720" y="1982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2843280" y="2781360"/>
            <a:ext cx="586440" cy="2087640"/>
            <a:chOff x="2843280" y="2781360"/>
            <a:chExt cx="586440" cy="2087640"/>
          </a:xfrm>
        </p:grpSpPr>
        <p:sp>
          <p:nvSpPr>
            <p:cNvPr id="737" name=""/>
            <p:cNvSpPr/>
            <p:nvPr/>
          </p:nvSpPr>
          <p:spPr>
            <a:xfrm>
              <a:off x="2843280" y="2781360"/>
              <a:ext cx="216000" cy="2087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54360 h 2087640"/>
                <a:gd name="textAreaBottom" fmla="*/ 203328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97720" y="3638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</a:t>
              </a:r>
              <a:r>
                <a:rPr b="0" i="1" lang="en-GB" sz="1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843280" y="5013360"/>
            <a:ext cx="668160" cy="576360"/>
            <a:chOff x="2843280" y="5013360"/>
            <a:chExt cx="668160" cy="576360"/>
          </a:xfrm>
        </p:grpSpPr>
        <p:sp>
          <p:nvSpPr>
            <p:cNvPr id="740" name=""/>
            <p:cNvSpPr/>
            <p:nvPr/>
          </p:nvSpPr>
          <p:spPr>
            <a:xfrm>
              <a:off x="2843280" y="5013360"/>
              <a:ext cx="217440" cy="57636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3960" y="50846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r>
                <a:rPr b="0" i="1" lang="en-GB" sz="18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643280" y="1628640"/>
                <a:ext cx="40341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4500720" y="5013360"/>
            <a:ext cx="4114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</a:rPr>
              <a:t>Exercise: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The groups describe their scenarios using dual value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F33C-BDEE-4454-BB74-A8118A8C0B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emiums with ceilings (quotas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wo principal possibil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1079640" indent="-457200">
              <a:spcBef>
                <a:spcPts val="601"/>
              </a:spcBef>
              <a:buClr>
                <a:srgbClr val="ff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ndividual premium rights: The marginal premium is discontinuous with a sharp drop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1079640" indent="-457200">
              <a:spcBef>
                <a:spcPts val="601"/>
              </a:spcBef>
              <a:buClr>
                <a:srgbClr val="ff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ach individual perceives the premium rate as consta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ll premiums in CAPRI work as (II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inimum data required for each premium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1079640" indent="-4572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ctivity list for which premium is defin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1079640" indent="-4572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remium amount if ceiling not reach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1079640" indent="-4572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eiling in Euro or Hectares/Hea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7253-C6DF-404F-A8BE-0CB8707A5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971640" y="1341360"/>
          <a:ext cx="730728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73072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xample from Agenda 2000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258920" y="2492280"/>
            <a:ext cx="936720" cy="3621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58920" y="2487600"/>
            <a:ext cx="936720" cy="361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11280" y="2487600"/>
            <a:ext cx="936720" cy="361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92720" y="2487600"/>
            <a:ext cx="936720" cy="361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6300720" y="1413000"/>
            <a:ext cx="936720" cy="1436400"/>
            <a:chOff x="6300720" y="1413000"/>
            <a:chExt cx="936720" cy="1436400"/>
          </a:xfrm>
        </p:grpSpPr>
        <p:sp>
          <p:nvSpPr>
            <p:cNvPr id="638" name=""/>
            <p:cNvSpPr/>
            <p:nvPr/>
          </p:nvSpPr>
          <p:spPr>
            <a:xfrm>
              <a:off x="6300720" y="2487600"/>
              <a:ext cx="936720" cy="36180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0720" y="1413000"/>
              <a:ext cx="936720" cy="36180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PGGRCU = {SWHE, RYEM, BARL …}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Sets defined in policy\policy_sets.gm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efinitions are hierarchical: EU </a:t>
            </a:r>
            <a:r>
              <a:rPr b="0" lang="en-GB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MS </a:t>
            </a:r>
            <a:r>
              <a:rPr b="0" lang="en-GB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NUTS2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5409-5D3F-4ED7-8B4A-225312FC7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artial decoupl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cision 1: Degree of coupling per premiu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cision 2: How redistribute decoupled fund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arm specific payme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gional flat rate premiu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ifferent amounts for grassland and arable land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Which regional level?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dditional payment for farms with certain cattle activities (Hybridmodell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FC5D-D221-4BEB-8E08-163AFF6FAA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und flow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59120" y="1413720"/>
            <a:ext cx="2045160" cy="1514160"/>
            <a:chOff x="159120" y="1413720"/>
            <a:chExt cx="2045160" cy="1514160"/>
          </a:xfrm>
        </p:grpSpPr>
        <p:sp>
          <p:nvSpPr>
            <p:cNvPr id="645" name=""/>
            <p:cNvSpPr/>
            <p:nvPr/>
          </p:nvSpPr>
          <p:spPr>
            <a:xfrm>
              <a:off x="190080" y="1413720"/>
              <a:ext cx="1982520" cy="642600"/>
            </a:xfrm>
            <a:prstGeom prst="flowChartInputOutput">
              <a:avLst/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remium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definition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9120" y="2285280"/>
              <a:ext cx="2045160" cy="642600"/>
            </a:xfrm>
            <a:prstGeom prst="flowChartInputOutpu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Referen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958760" y="1551600"/>
            <a:ext cx="1104840" cy="1054800"/>
            <a:chOff x="1958760" y="1551600"/>
            <a:chExt cx="1104840" cy="1054800"/>
          </a:xfrm>
        </p:grpSpPr>
        <p:sp>
          <p:nvSpPr>
            <p:cNvPr id="648" name=""/>
            <p:cNvSpPr/>
            <p:nvPr/>
          </p:nvSpPr>
          <p:spPr>
            <a:xfrm>
              <a:off x="2730600" y="1551600"/>
              <a:ext cx="333000" cy="368280"/>
            </a:xfrm>
            <a:prstGeom prst="flowChartProcess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stCxn id="645" idx="5"/>
              <a:endCxn id="648" idx="1"/>
            </p:cNvCxnSpPr>
            <p:nvPr/>
          </p:nvCxnSpPr>
          <p:spPr>
            <a:xfrm>
              <a:off x="1958760" y="1735200"/>
              <a:ext cx="751320" cy="2160"/>
            </a:xfrm>
            <a:prstGeom prst="curvedConnector5">
              <a:avLst>
                <a:gd name="adj1" fmla="val 62991"/>
                <a:gd name="adj2" fmla="val 40000"/>
                <a:gd name="adj3" fmla="val 62991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stCxn id="646" idx="5"/>
              <a:endCxn id="648" idx="1"/>
            </p:cNvCxnSpPr>
            <p:nvPr/>
          </p:nvCxnSpPr>
          <p:spPr>
            <a:xfrm flipV="1">
              <a:off x="1983960" y="1735920"/>
              <a:ext cx="726120" cy="870840"/>
            </a:xfrm>
            <a:prstGeom prst="curvedConnector5">
              <a:avLst>
                <a:gd name="adj1" fmla="val 63888"/>
                <a:gd name="adj2" fmla="val 50000"/>
                <a:gd name="adj3" fmla="val 63888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1" name=""/>
          <p:cNvGrpSpPr/>
          <p:nvPr/>
        </p:nvGrpSpPr>
        <p:grpSpPr>
          <a:xfrm>
            <a:off x="3084480" y="1413720"/>
            <a:ext cx="2406240" cy="642600"/>
            <a:chOff x="3084480" y="1413720"/>
            <a:chExt cx="2406240" cy="642600"/>
          </a:xfrm>
        </p:grpSpPr>
        <p:sp>
          <p:nvSpPr>
            <p:cNvPr id="652" name=""/>
            <p:cNvSpPr/>
            <p:nvPr/>
          </p:nvSpPr>
          <p:spPr>
            <a:xfrm>
              <a:off x="3465720" y="1413720"/>
              <a:ext cx="2025000" cy="642600"/>
            </a:xfrm>
            <a:prstGeom prst="flowChartInputOutpu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Referen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ayment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53" name=""/>
            <p:cNvCxnSpPr>
              <a:stCxn id="648" idx="3"/>
              <a:endCxn id="652" idx="2"/>
            </p:cNvCxnSpPr>
            <p:nvPr/>
          </p:nvCxnSpPr>
          <p:spPr>
            <a:xfrm flipV="1">
              <a:off x="3084480" y="1734840"/>
              <a:ext cx="596160" cy="2160"/>
            </a:xfrm>
            <a:prstGeom prst="curvedConnector5">
              <a:avLst>
                <a:gd name="adj1" fmla="val 33293"/>
                <a:gd name="adj2" fmla="val 40000"/>
                <a:gd name="adj3" fmla="val 3329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4" name=""/>
          <p:cNvGrpSpPr/>
          <p:nvPr/>
        </p:nvGrpSpPr>
        <p:grpSpPr>
          <a:xfrm>
            <a:off x="5273640" y="1735200"/>
            <a:ext cx="959400" cy="1529640"/>
            <a:chOff x="5273640" y="1735200"/>
            <a:chExt cx="959400" cy="1529640"/>
          </a:xfrm>
        </p:grpSpPr>
        <p:sp>
          <p:nvSpPr>
            <p:cNvPr id="655" name=""/>
            <p:cNvSpPr/>
            <p:nvPr/>
          </p:nvSpPr>
          <p:spPr>
            <a:xfrm>
              <a:off x="5289840" y="2529000"/>
              <a:ext cx="943200" cy="735840"/>
            </a:xfrm>
            <a:prstGeom prst="flowChartDecision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56" name=""/>
            <p:cNvCxnSpPr>
              <a:stCxn id="652" idx="5"/>
              <a:endCxn id="655" idx="0"/>
            </p:cNvCxnSpPr>
            <p:nvPr/>
          </p:nvCxnSpPr>
          <p:spPr>
            <a:xfrm>
              <a:off x="5273640" y="1735200"/>
              <a:ext cx="488160" cy="82152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7" name=""/>
          <p:cNvGrpSpPr/>
          <p:nvPr/>
        </p:nvGrpSpPr>
        <p:grpSpPr>
          <a:xfrm>
            <a:off x="6164280" y="1277280"/>
            <a:ext cx="2395800" cy="1619640"/>
            <a:chOff x="6164280" y="1277280"/>
            <a:chExt cx="2395800" cy="1619640"/>
          </a:xfrm>
        </p:grpSpPr>
        <p:sp>
          <p:nvSpPr>
            <p:cNvPr id="658" name=""/>
            <p:cNvSpPr/>
            <p:nvPr/>
          </p:nvSpPr>
          <p:spPr>
            <a:xfrm>
              <a:off x="6620760" y="1277280"/>
              <a:ext cx="1939320" cy="917280"/>
            </a:xfrm>
            <a:prstGeom prst="flowChartInputOutput">
              <a:avLst/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remium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remaining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coupl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5" idx="3"/>
              <a:endCxn id="658" idx="3"/>
            </p:cNvCxnSpPr>
            <p:nvPr/>
          </p:nvCxnSpPr>
          <p:spPr>
            <a:xfrm flipV="1">
              <a:off x="6164280" y="2212200"/>
              <a:ext cx="1234080" cy="68508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60" name=""/>
          <p:cNvGrpSpPr/>
          <p:nvPr/>
        </p:nvGrpSpPr>
        <p:grpSpPr>
          <a:xfrm>
            <a:off x="6163920" y="2897280"/>
            <a:ext cx="2584440" cy="2415600"/>
            <a:chOff x="6163920" y="2897280"/>
            <a:chExt cx="2584440" cy="2415600"/>
          </a:xfrm>
        </p:grpSpPr>
        <p:grpSp>
          <p:nvGrpSpPr>
            <p:cNvPr id="661" name=""/>
            <p:cNvGrpSpPr/>
            <p:nvPr/>
          </p:nvGrpSpPr>
          <p:grpSpPr>
            <a:xfrm>
              <a:off x="6516360" y="3517560"/>
              <a:ext cx="2232000" cy="1795320"/>
              <a:chOff x="6516360" y="3517560"/>
              <a:chExt cx="2232000" cy="179532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6516360" y="3517560"/>
                <a:ext cx="1800360" cy="1363320"/>
                <a:chOff x="6516360" y="3517560"/>
                <a:chExt cx="1800360" cy="1363320"/>
              </a:xfrm>
            </p:grpSpPr>
            <p:sp>
              <p:nvSpPr>
                <p:cNvPr id="663" name=""/>
                <p:cNvSpPr/>
                <p:nvPr/>
              </p:nvSpPr>
              <p:spPr>
                <a:xfrm flipH="1" rot="10113600">
                  <a:off x="6948360" y="3561840"/>
                  <a:ext cx="468360" cy="17928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6516000" y="3714840"/>
                  <a:ext cx="1800360" cy="11660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3200" spc="-1" strike="noStrike">
                      <a:solidFill>
                        <a:srgbClr val="ffff00"/>
                      </a:solidFill>
                      <a:latin typeface="Arial"/>
                    </a:rPr>
                    <a:t>€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Decoupled</a:t>
                  </a:r>
                  <a:endParaRPr b="0" lang="en-US" sz="16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6732720" y="3733560"/>
                <a:ext cx="1800000" cy="1363320"/>
                <a:chOff x="6732720" y="3733560"/>
                <a:chExt cx="1800000" cy="1363320"/>
              </a:xfrm>
            </p:grpSpPr>
            <p:sp>
              <p:nvSpPr>
                <p:cNvPr id="666" name=""/>
                <p:cNvSpPr/>
                <p:nvPr/>
              </p:nvSpPr>
              <p:spPr>
                <a:xfrm flipH="1" rot="10113600">
                  <a:off x="7163640" y="3777840"/>
                  <a:ext cx="468000" cy="17928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6732720" y="3930840"/>
                  <a:ext cx="1800000" cy="1166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3200" spc="-1" strike="noStrike">
                      <a:solidFill>
                        <a:srgbClr val="ffff00"/>
                      </a:solidFill>
                      <a:latin typeface="Arial"/>
                    </a:rPr>
                    <a:t>€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Decoupled</a:t>
                  </a:r>
                  <a:endParaRPr b="0" lang="en-US" sz="16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6948000" y="3949560"/>
                <a:ext cx="1800360" cy="1363320"/>
                <a:chOff x="6948000" y="3949560"/>
                <a:chExt cx="1800360" cy="1363320"/>
              </a:xfrm>
            </p:grpSpPr>
            <p:sp>
              <p:nvSpPr>
                <p:cNvPr id="669" name=""/>
                <p:cNvSpPr/>
                <p:nvPr/>
              </p:nvSpPr>
              <p:spPr>
                <a:xfrm flipH="1" rot="10113600">
                  <a:off x="7380000" y="3993840"/>
                  <a:ext cx="468360" cy="17928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6947640" y="4146840"/>
                  <a:ext cx="1800360" cy="1166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3200" spc="-1" strike="noStrike">
                      <a:solidFill>
                        <a:srgbClr val="ffff00"/>
                      </a:solidFill>
                      <a:latin typeface="Arial"/>
                    </a:rPr>
                    <a:t>€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Decoupled</a:t>
                  </a:r>
                  <a:endParaRPr b="0" lang="en-US" sz="16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71" name=""/>
            <p:cNvCxnSpPr>
              <a:stCxn id="655" idx="3"/>
              <a:endCxn id="666" idx="4"/>
            </p:cNvCxnSpPr>
            <p:nvPr/>
          </p:nvCxnSpPr>
          <p:spPr>
            <a:xfrm>
              <a:off x="6163920" y="2897280"/>
              <a:ext cx="1445040" cy="8373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72" name=""/>
          <p:cNvGrpSpPr/>
          <p:nvPr/>
        </p:nvGrpSpPr>
        <p:grpSpPr>
          <a:xfrm>
            <a:off x="5288400" y="3954600"/>
            <a:ext cx="1227960" cy="735840"/>
            <a:chOff x="5288400" y="3954600"/>
            <a:chExt cx="1227960" cy="735840"/>
          </a:xfrm>
        </p:grpSpPr>
        <p:sp>
          <p:nvSpPr>
            <p:cNvPr id="673" name=""/>
            <p:cNvSpPr/>
            <p:nvPr/>
          </p:nvSpPr>
          <p:spPr>
            <a:xfrm>
              <a:off x="5288400" y="3954600"/>
              <a:ext cx="943200" cy="735840"/>
            </a:xfrm>
            <a:prstGeom prst="flowChartDecision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74" name=""/>
            <p:cNvCxnSpPr>
              <a:stCxn id="664" idx="6"/>
              <a:endCxn id="673" idx="3"/>
            </p:cNvCxnSpPr>
            <p:nvPr/>
          </p:nvCxnSpPr>
          <p:spPr>
            <a:xfrm flipV="1" rot="10800000">
              <a:off x="6162120" y="4296240"/>
              <a:ext cx="354600" cy="26280"/>
            </a:xfrm>
            <a:prstGeom prst="curvedConnector5">
              <a:avLst>
                <a:gd name="adj1" fmla="val 51117"/>
                <a:gd name="adj2" fmla="val 50000"/>
                <a:gd name="adj3" fmla="val 51117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75" name=""/>
          <p:cNvGrpSpPr/>
          <p:nvPr/>
        </p:nvGrpSpPr>
        <p:grpSpPr>
          <a:xfrm>
            <a:off x="1014480" y="2975400"/>
            <a:ext cx="1685880" cy="2882160"/>
            <a:chOff x="1014480" y="2975400"/>
            <a:chExt cx="1685880" cy="2882160"/>
          </a:xfrm>
        </p:grpSpPr>
        <p:sp>
          <p:nvSpPr>
            <p:cNvPr id="676" name=""/>
            <p:cNvSpPr/>
            <p:nvPr/>
          </p:nvSpPr>
          <p:spPr>
            <a:xfrm>
              <a:off x="1014480" y="4158360"/>
              <a:ext cx="333000" cy="368280"/>
            </a:xfrm>
            <a:prstGeom prst="flowChartProcess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77" name=""/>
            <p:cNvCxnSpPr>
              <a:stCxn id="678" idx="6"/>
              <a:endCxn id="676" idx="3"/>
            </p:cNvCxnSpPr>
            <p:nvPr/>
          </p:nvCxnSpPr>
          <p:spPr>
            <a:xfrm flipV="1" rot="10800000">
              <a:off x="1367640" y="2975400"/>
              <a:ext cx="1332720" cy="1367640"/>
            </a:xfrm>
            <a:prstGeom prst="curvedConnector5">
              <a:avLst>
                <a:gd name="adj1" fmla="val 50283"/>
                <a:gd name="adj2" fmla="val 50000"/>
                <a:gd name="adj3" fmla="val 5028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80" idx="6"/>
              <a:endCxn id="676" idx="3"/>
            </p:cNvCxnSpPr>
            <p:nvPr/>
          </p:nvCxnSpPr>
          <p:spPr>
            <a:xfrm flipV="1" rot="10800000">
              <a:off x="1367640" y="3696120"/>
              <a:ext cx="1332720" cy="646920"/>
            </a:xfrm>
            <a:prstGeom prst="curvedConnector5">
              <a:avLst>
                <a:gd name="adj1" fmla="val 50283"/>
                <a:gd name="adj2" fmla="val 50000"/>
                <a:gd name="adj3" fmla="val 5028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1" name=""/>
            <p:cNvCxnSpPr>
              <a:stCxn id="682" idx="6"/>
              <a:endCxn id="676" idx="3"/>
            </p:cNvCxnSpPr>
            <p:nvPr/>
          </p:nvCxnSpPr>
          <p:spPr>
            <a:xfrm rot="10800000">
              <a:off x="1367640" y="4342680"/>
              <a:ext cx="1332720" cy="73800"/>
            </a:xfrm>
            <a:prstGeom prst="curvedConnector5">
              <a:avLst>
                <a:gd name="adj1" fmla="val 50283"/>
                <a:gd name="adj2" fmla="val 50000"/>
                <a:gd name="adj3" fmla="val 5028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3" name=""/>
            <p:cNvCxnSpPr>
              <a:stCxn id="684" idx="6"/>
              <a:endCxn id="676" idx="3"/>
            </p:cNvCxnSpPr>
            <p:nvPr/>
          </p:nvCxnSpPr>
          <p:spPr>
            <a:xfrm rot="10800000">
              <a:off x="1367640" y="4342680"/>
              <a:ext cx="1332720" cy="794520"/>
            </a:xfrm>
            <a:prstGeom prst="curvedConnector5">
              <a:avLst>
                <a:gd name="adj1" fmla="val 50283"/>
                <a:gd name="adj2" fmla="val 50000"/>
                <a:gd name="adj3" fmla="val 5028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>
              <a:stCxn id="686" idx="6"/>
              <a:endCxn id="676" idx="3"/>
            </p:cNvCxnSpPr>
            <p:nvPr/>
          </p:nvCxnSpPr>
          <p:spPr>
            <a:xfrm rot="10800000">
              <a:off x="1367640" y="4342680"/>
              <a:ext cx="1332720" cy="1515240"/>
            </a:xfrm>
            <a:prstGeom prst="curvedConnector5">
              <a:avLst>
                <a:gd name="adj1" fmla="val 50283"/>
                <a:gd name="adj2" fmla="val 50000"/>
                <a:gd name="adj3" fmla="val 50283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cxnSp>
        <p:nvCxnSpPr>
          <p:cNvPr id="687" name=""/>
          <p:cNvCxnSpPr>
            <a:stCxn id="646" idx="4"/>
            <a:endCxn id="676" idx="0"/>
          </p:cNvCxnSpPr>
          <p:nvPr/>
        </p:nvCxnSpPr>
        <p:spPr>
          <a:xfrm flipV="1" rot="10800000">
            <a:off x="1180440" y="2945880"/>
            <a:ext cx="1080" cy="1194840"/>
          </a:xfrm>
          <a:prstGeom prst="curved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grpSp>
        <p:nvGrpSpPr>
          <p:cNvPr id="688" name=""/>
          <p:cNvGrpSpPr/>
          <p:nvPr/>
        </p:nvGrpSpPr>
        <p:grpSpPr>
          <a:xfrm>
            <a:off x="138240" y="4544640"/>
            <a:ext cx="2085480" cy="1828080"/>
            <a:chOff x="138240" y="4544640"/>
            <a:chExt cx="2085480" cy="1828080"/>
          </a:xfrm>
        </p:grpSpPr>
        <p:sp>
          <p:nvSpPr>
            <p:cNvPr id="689" name=""/>
            <p:cNvSpPr/>
            <p:nvPr/>
          </p:nvSpPr>
          <p:spPr>
            <a:xfrm>
              <a:off x="138240" y="5730120"/>
              <a:ext cx="2085480" cy="642600"/>
            </a:xfrm>
            <a:prstGeom prst="flowChartInputOutpu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Decoupled</a:t>
              </a:r>
              <a:br>
                <a:rPr sz="1800"/>
              </a:b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payment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90" name=""/>
            <p:cNvCxnSpPr>
              <a:stCxn id="676" idx="2"/>
              <a:endCxn id="689" idx="1"/>
            </p:cNvCxnSpPr>
            <p:nvPr/>
          </p:nvCxnSpPr>
          <p:spPr>
            <a:xfrm flipV="1" rot="10800000">
              <a:off x="1180440" y="4544640"/>
              <a:ext cx="1080" cy="116748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2556000" y="2520720"/>
            <a:ext cx="2800080" cy="3716640"/>
            <a:chOff x="2556000" y="2520720"/>
            <a:chExt cx="2800080" cy="3716640"/>
          </a:xfrm>
        </p:grpSpPr>
        <p:grpSp>
          <p:nvGrpSpPr>
            <p:cNvPr id="692" name=""/>
            <p:cNvGrpSpPr/>
            <p:nvPr/>
          </p:nvGrpSpPr>
          <p:grpSpPr>
            <a:xfrm>
              <a:off x="2700360" y="2520720"/>
              <a:ext cx="2655720" cy="3575160"/>
              <a:chOff x="2700360" y="2520720"/>
              <a:chExt cx="2655720" cy="35751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700360" y="2520720"/>
                <a:ext cx="1800000" cy="3575160"/>
                <a:chOff x="2700360" y="2520720"/>
                <a:chExt cx="1800000" cy="3575160"/>
              </a:xfrm>
            </p:grpSpPr>
            <p:grpSp>
              <p:nvGrpSpPr>
                <p:cNvPr id="694" name=""/>
                <p:cNvGrpSpPr/>
                <p:nvPr/>
              </p:nvGrpSpPr>
              <p:grpSpPr>
                <a:xfrm>
                  <a:off x="2700360" y="2520720"/>
                  <a:ext cx="1800000" cy="694080"/>
                  <a:chOff x="2700360" y="2520720"/>
                  <a:chExt cx="1800000" cy="69408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10113600">
                    <a:off x="3131640" y="2565000"/>
                    <a:ext cx="468360" cy="1792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sp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700360" y="2738520"/>
                    <a:ext cx="1800000" cy="476280"/>
                  </a:xfrm>
                  <a:prstGeom prst="ellips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Farm</a:t>
                    </a:r>
                    <a:endParaRPr b="0" lang="en-US" sz="16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2700360" y="3241440"/>
                  <a:ext cx="1800000" cy="694080"/>
                  <a:chOff x="2700360" y="3241440"/>
                  <a:chExt cx="1800000" cy="69408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 flipH="1" rot="10113600">
                    <a:off x="3131640" y="3285720"/>
                    <a:ext cx="468360" cy="1792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sp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>
                    <a:off x="2700360" y="3459240"/>
                    <a:ext cx="1800000" cy="476280"/>
                  </a:xfrm>
                  <a:prstGeom prst="ellipse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Hybrid</a:t>
                    </a:r>
                    <a:endParaRPr b="0" lang="en-US" sz="16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2700360" y="3960360"/>
                  <a:ext cx="1800000" cy="694080"/>
                  <a:chOff x="2700360" y="3960360"/>
                  <a:chExt cx="1800000" cy="69408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 rot="10113600">
                    <a:off x="3131640" y="4004640"/>
                    <a:ext cx="468360" cy="1792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sp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2700360" y="4178160"/>
                    <a:ext cx="1800000" cy="476280"/>
                  </a:xfrm>
                  <a:prstGeom prst="ellipse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Grassland</a:t>
                    </a:r>
                    <a:endParaRPr b="0" lang="en-US" sz="16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2700360" y="4681080"/>
                  <a:ext cx="1800000" cy="866520"/>
                  <a:chOff x="2700360" y="4681080"/>
                  <a:chExt cx="1800000" cy="86652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rot="10113600">
                    <a:off x="3131640" y="4725360"/>
                    <a:ext cx="468360" cy="1792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sp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>
                    <a:off x="2700360" y="4727160"/>
                    <a:ext cx="1800000" cy="820440"/>
                  </a:xfrm>
                  <a:prstGeom prst="ellipse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rable land</a:t>
                    </a:r>
                    <a:endParaRPr b="0" lang="en-US" sz="16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2700360" y="5401800"/>
                  <a:ext cx="1800000" cy="694080"/>
                  <a:chOff x="2700360" y="5401800"/>
                  <a:chExt cx="1800000" cy="69408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 rot="10113600">
                    <a:off x="3131640" y="5446080"/>
                    <a:ext cx="468360" cy="179280"/>
                  </a:xfrm>
                  <a:prstGeom prst="triangle">
                    <a:avLst>
                      <a:gd name="adj" fmla="val 50000"/>
                    </a:avLst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sp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2700360" y="5619600"/>
                    <a:ext cx="1800000" cy="476280"/>
                  </a:xfrm>
                  <a:prstGeom prst="ellipse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ll land</a:t>
                    </a:r>
                    <a:endParaRPr b="0" lang="en-US" sz="16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704" name=""/>
              <p:cNvCxnSpPr>
                <a:stCxn id="673" idx="1"/>
                <a:endCxn id="678" idx="2"/>
              </p:cNvCxnSpPr>
              <p:nvPr/>
            </p:nvCxnSpPr>
            <p:spPr>
              <a:xfrm rot="10800000">
                <a:off x="4500000" y="2975760"/>
                <a:ext cx="856080" cy="1347120"/>
              </a:xfrm>
              <a:prstGeom prst="curvedConnector5">
                <a:avLst>
                  <a:gd name="adj1" fmla="val 49347"/>
                  <a:gd name="adj2" fmla="val 49986"/>
                  <a:gd name="adj3" fmla="val 49347"/>
                </a:avLst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05" name=""/>
              <p:cNvCxnSpPr>
                <a:stCxn id="673" idx="1"/>
                <a:endCxn id="680" idx="2"/>
              </p:cNvCxnSpPr>
              <p:nvPr/>
            </p:nvCxnSpPr>
            <p:spPr>
              <a:xfrm rot="10800000">
                <a:off x="4500000" y="3697200"/>
                <a:ext cx="856080" cy="626040"/>
              </a:xfrm>
              <a:prstGeom prst="curvedConnector5">
                <a:avLst>
                  <a:gd name="adj1" fmla="val 49347"/>
                  <a:gd name="adj2" fmla="val 50000"/>
                  <a:gd name="adj3" fmla="val 49347"/>
                </a:avLst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06" name=""/>
              <p:cNvCxnSpPr>
                <a:stCxn id="673" idx="1"/>
                <a:endCxn id="682" idx="2"/>
              </p:cNvCxnSpPr>
              <p:nvPr/>
            </p:nvCxnSpPr>
            <p:spPr>
              <a:xfrm flipV="1" rot="10800000">
                <a:off x="4500000" y="4322520"/>
                <a:ext cx="856080" cy="94320"/>
              </a:xfrm>
              <a:prstGeom prst="curvedConnector5">
                <a:avLst>
                  <a:gd name="adj1" fmla="val 49347"/>
                  <a:gd name="adj2" fmla="val 49808"/>
                  <a:gd name="adj3" fmla="val 49347"/>
                </a:avLst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07" name=""/>
              <p:cNvCxnSpPr>
                <a:stCxn id="673" idx="1"/>
                <a:endCxn id="684" idx="2"/>
              </p:cNvCxnSpPr>
              <p:nvPr/>
            </p:nvCxnSpPr>
            <p:spPr>
              <a:xfrm flipV="1" rot="10800000">
                <a:off x="4500000" y="4322520"/>
                <a:ext cx="856080" cy="815040"/>
              </a:xfrm>
              <a:prstGeom prst="curvedConnector5">
                <a:avLst>
                  <a:gd name="adj1" fmla="val 49347"/>
                  <a:gd name="adj2" fmla="val 49977"/>
                  <a:gd name="adj3" fmla="val 49347"/>
                </a:avLst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08" name=""/>
              <p:cNvCxnSpPr>
                <a:stCxn id="673" idx="1"/>
                <a:endCxn id="686" idx="2"/>
              </p:cNvCxnSpPr>
              <p:nvPr/>
            </p:nvCxnSpPr>
            <p:spPr>
              <a:xfrm flipV="1" rot="10800000">
                <a:off x="4500000" y="4322520"/>
                <a:ext cx="856080" cy="1535760"/>
              </a:xfrm>
              <a:prstGeom prst="curvedConnector5">
                <a:avLst>
                  <a:gd name="adj1" fmla="val 49347"/>
                  <a:gd name="adj2" fmla="val 49988"/>
                  <a:gd name="adj3" fmla="val 49347"/>
                </a:avLst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709" name=""/>
            <p:cNvSpPr/>
            <p:nvPr/>
          </p:nvSpPr>
          <p:spPr>
            <a:xfrm>
              <a:off x="2556000" y="4076640"/>
              <a:ext cx="2016000" cy="216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BDD9-1E2E-46F7-8510-8B7E13500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iles defining the polic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genda 2000 is always rea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or simulations into the future, a standard MTR scenario is us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urther scenarios are defined incrementally, as reforms of previously defined scenario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GAMS-files are named as the scenario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38600" y="4581360"/>
            <a:ext cx="1599480" cy="7855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nda 2000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nda.gm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71640" y="4581360"/>
            <a:ext cx="2369160" cy="785520"/>
            <a:chOff x="2771640" y="4581360"/>
            <a:chExt cx="2369160" cy="785520"/>
          </a:xfrm>
        </p:grpSpPr>
        <p:sp>
          <p:nvSpPr>
            <p:cNvPr id="714" name=""/>
            <p:cNvSpPr/>
            <p:nvPr/>
          </p:nvSpPr>
          <p:spPr>
            <a:xfrm>
              <a:off x="3513960" y="4581360"/>
              <a:ext cx="1626840" cy="785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TR standar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trstd.gm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71640" y="5013360"/>
              <a:ext cx="648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219640" y="4581360"/>
            <a:ext cx="2998440" cy="785520"/>
            <a:chOff x="5219640" y="4581360"/>
            <a:chExt cx="2998440" cy="785520"/>
          </a:xfrm>
        </p:grpSpPr>
        <p:sp>
          <p:nvSpPr>
            <p:cNvPr id="717" name=""/>
            <p:cNvSpPr/>
            <p:nvPr/>
          </p:nvSpPr>
          <p:spPr>
            <a:xfrm>
              <a:off x="6034680" y="4581360"/>
              <a:ext cx="2183400" cy="785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ther scenario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cenarioName.gm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19640" y="4941720"/>
              <a:ext cx="72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33AC-CC30-4031-9E71-D4322FAE63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490760"/>
            <a:ext cx="77724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um of payments per activ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mposition of payments per activ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ut factors (premium right shortag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ost of premiums per region (MS-EU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Best explored using the XML-too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590F-2161-41E1-B2E1-F658984A5D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imple scenario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imulations for 2013, France, no marke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ogether: Sheep and goats premium not decoupled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Exercises pair-wise, any of the following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Fully de-couple DPSCOW for France (=eps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Fully de-couple DPGRCU for France (=eps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Couple bull-premium (DPBULF) for France to 75%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Arial"/>
              </a:rPr>
              <a:t>Prepare to explain 10 min what happened!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Income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Premium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10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99"/>
                </a:solidFill>
                <a:latin typeface="Arial"/>
              </a:rPr>
              <a:t>Activity level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BFA2-1CE6-496D-B14C-27880917F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ual valu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emember the first order condi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f revenues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rise for an activity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other terms must compensat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Other endogenous terms: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4788000" y="2349360"/>
                <a:ext cx="36608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 flipV="1">
            <a:off x="4932360" y="220500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32720" y="220500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96360" y="2205000"/>
            <a:ext cx="0" cy="43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300B-871F-428C-922F-A434F5991B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5:56Z</dcterms:created>
  <dc:creator>Torbjörn Jansson</dc:creator>
  <dc:description/>
  <dc:language>en-US</dc:language>
  <cp:lastModifiedBy>Wolfgang 2</cp:lastModifiedBy>
  <cp:lastPrinted>2001-02-14T10:53:05Z</cp:lastPrinted>
  <dcterms:modified xsi:type="dcterms:W3CDTF">2008-10-23T06:32:01Z</dcterms:modified>
  <cp:revision>145</cp:revision>
  <dc:subject/>
  <dc:title>CAPRI Common Agricultural Policy Regional Imp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