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98F1-C0A2-4BEF-BF13-59C3542AA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7E57-9C3E-4940-BF64-B445B27F6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B162-F58B-46AD-B424-BC0E55583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440C-114C-4FEA-AAC7-761543BF0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39B2-3869-4A66-A513-FF3B4B11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A66F-B4F7-4E75-A8D9-27433B263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28CE-9529-4B20-B20F-E9DFC73E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7701-F4BA-4257-94C5-5F386EAC7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42920" y="228240"/>
            <a:ext cx="705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AF17-1803-44A4-9B93-E98F4870B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6934-F35A-4F6D-A88E-AA133D6FC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A529-5DC0-414E-ADDC-AE6671958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2CF4-0782-41E1-910A-12689529C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2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3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17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18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0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1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2412000" y="6582600"/>
            <a:ext cx="445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APRI Training Session at JRC-IPTS, Sevilla, May 16-20 200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E95F-AAC9-4EA4-B446-C82D496FCD31}" type="slidenum"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360080" indent="-1940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748520" indent="-1940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748520" indent="-1940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748520" indent="-19404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380880"/>
            <a:ext cx="611280" cy="595440"/>
            <a:chOff x="380880" y="380880"/>
            <a:chExt cx="611280" cy="595440"/>
          </a:xfrm>
        </p:grpSpPr>
        <p:grpSp>
          <p:nvGrpSpPr>
            <p:cNvPr id="73" name=""/>
            <p:cNvGrpSpPr/>
            <p:nvPr/>
          </p:nvGrpSpPr>
          <p:grpSpPr>
            <a:xfrm>
              <a:off x="380880" y="380880"/>
              <a:ext cx="611280" cy="595440"/>
              <a:chOff x="380880" y="380880"/>
              <a:chExt cx="611280" cy="595440"/>
            </a:xfrm>
          </p:grpSpPr>
          <p:sp>
            <p:nvSpPr>
              <p:cNvPr id="74" name=""/>
              <p:cNvSpPr/>
              <p:nvPr/>
            </p:nvSpPr>
            <p:spPr>
              <a:xfrm>
                <a:off x="42192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216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900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936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824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400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896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220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72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96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8456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88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89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cc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263520"/>
            <a:ext cx="8153280" cy="63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105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385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onnecting supply and deman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orbjörn Jansson*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6093000"/>
            <a:ext cx="187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*Corresponding author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+49-228-732323</a:t>
            </a:r>
            <a:br>
              <a:rPr sz="1000"/>
            </a:b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www.agp.uni-bonn.d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940360" y="6093000"/>
            <a:ext cx="3062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Department for Economic and Agricultural Poli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Bonn Univers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Nussallee 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53115 Bonn, German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4000" y="609300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99"/>
                </a:solidFill>
                <a:latin typeface="News Gothic MT"/>
              </a:rPr>
              <a:t>CAPRI Training Session in Warzaw, June 26-30, 200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APRI</a:t>
            </a:r>
            <a:br>
              <a:rPr sz="3200"/>
            </a:b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Common Agricultural Policy Regional Impa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990720" y="2286000"/>
            <a:ext cx="220968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Supply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2" action="ppaction://hlinksldjump"/>
              </a:rPr>
              <a:t>_x000b_</a:t>
            </a: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Regional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optimisation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model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Perennial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ub-modu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2286000"/>
            <a:ext cx="2286000" cy="22860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99"/>
                </a:solidFill>
                <a:uFillTx/>
                <a:latin typeface="Arial"/>
                <a:hlinkClick r:id="rId3" action="ppaction://hlinksldjump"/>
              </a:rPr>
              <a:t>Markets</a:t>
            </a:r>
            <a:r>
              <a:rPr b="0" lang="en-GB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Multi-commodity</a:t>
            </a:r>
            <a:br>
              <a:rPr sz="1800"/>
            </a:br>
            <a:r>
              <a:rPr b="0" lang="en-GB" sz="1800" spc="-1" strike="noStrike">
                <a:solidFill>
                  <a:srgbClr val="ffff99"/>
                </a:solidFill>
                <a:latin typeface="Arial"/>
              </a:rPr>
              <a:t>spatial market mod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428640" y="3962520"/>
            <a:ext cx="2133720" cy="764280"/>
            <a:chOff x="3428640" y="3962520"/>
            <a:chExt cx="2133720" cy="764280"/>
          </a:xfrm>
        </p:grpSpPr>
        <p:sp>
          <p:nvSpPr>
            <p:cNvPr id="631" name=""/>
            <p:cNvSpPr/>
            <p:nvPr/>
          </p:nvSpPr>
          <p:spPr>
            <a:xfrm>
              <a:off x="4041000" y="42670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Pric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428640" y="3962520"/>
              <a:ext cx="213372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Reminder – General Model Layou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428640" y="1905120"/>
            <a:ext cx="2133720" cy="838080"/>
            <a:chOff x="3428640" y="1905120"/>
            <a:chExt cx="2133720" cy="838080"/>
          </a:xfrm>
        </p:grpSpPr>
        <p:sp>
          <p:nvSpPr>
            <p:cNvPr id="635" name=""/>
            <p:cNvSpPr/>
            <p:nvPr/>
          </p:nvSpPr>
          <p:spPr>
            <a:xfrm>
              <a:off x="3736440" y="19051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Quantiti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428640" y="2743200"/>
              <a:ext cx="213372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270080" y="5334480"/>
            <a:ext cx="6813720" cy="472320"/>
            <a:chOff x="1270080" y="5334480"/>
            <a:chExt cx="6813720" cy="472320"/>
          </a:xfrm>
        </p:grpSpPr>
        <p:sp>
          <p:nvSpPr>
            <p:cNvPr id="638" name=""/>
            <p:cNvSpPr/>
            <p:nvPr/>
          </p:nvSpPr>
          <p:spPr>
            <a:xfrm>
              <a:off x="1270080" y="533448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Iteration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93960" y="5575320"/>
              <a:ext cx="635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39680" y="5347080"/>
              <a:ext cx="43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Arial"/>
                </a:rPr>
                <a:t>Comparative Static Equilibrium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2935-B950-4C66-98FD-DEB16B473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On converge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1600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58920" y="3068640"/>
            <a:ext cx="2233440" cy="20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58920" y="3213000"/>
            <a:ext cx="2592360" cy="158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2280" y="460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640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60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60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617040" y="4365720"/>
            <a:ext cx="1218240" cy="405720"/>
            <a:chOff x="617040" y="4365720"/>
            <a:chExt cx="1218240" cy="405720"/>
          </a:xfrm>
        </p:grpSpPr>
        <p:sp>
          <p:nvSpPr>
            <p:cNvPr id="651" name=""/>
            <p:cNvSpPr/>
            <p:nvPr/>
          </p:nvSpPr>
          <p:spPr>
            <a:xfrm>
              <a:off x="61704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16000" y="4581360"/>
              <a:ext cx="71928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 flipV="1">
            <a:off x="1835280" y="357336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35280" y="3573360"/>
            <a:ext cx="1081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16360" y="3573360"/>
            <a:ext cx="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2195640" y="422100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195640" y="378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95640" y="378936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00360" y="378936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410920" y="407664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411280" y="3933360"/>
            <a:ext cx="0" cy="142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774800" y="352584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74800" y="4508640"/>
            <a:ext cx="108000" cy="10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54440" y="352584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54440" y="417348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651920" y="4365720"/>
            <a:ext cx="1335600" cy="405720"/>
            <a:chOff x="4651920" y="4365720"/>
            <a:chExt cx="1335600" cy="405720"/>
          </a:xfrm>
        </p:grpSpPr>
        <p:sp>
          <p:nvSpPr>
            <p:cNvPr id="667" name=""/>
            <p:cNvSpPr/>
            <p:nvPr/>
          </p:nvSpPr>
          <p:spPr>
            <a:xfrm>
              <a:off x="465192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8616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769280" y="2708280"/>
            <a:ext cx="3547080" cy="3033720"/>
            <a:chOff x="4769280" y="2708280"/>
            <a:chExt cx="3547080" cy="3033720"/>
          </a:xfrm>
        </p:grpSpPr>
        <p:sp>
          <p:nvSpPr>
            <p:cNvPr id="670" name=""/>
            <p:cNvSpPr/>
            <p:nvPr/>
          </p:nvSpPr>
          <p:spPr>
            <a:xfrm flipV="1">
              <a:off x="5297400" y="3238560"/>
              <a:ext cx="2489400" cy="1846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62560" y="3049560"/>
              <a:ext cx="2428920" cy="2176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29280" y="2925720"/>
              <a:ext cx="0" cy="2664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40200" y="5373720"/>
              <a:ext cx="3384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09280" y="537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6928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08760" y="299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50360" y="482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918040" y="3559320"/>
            <a:ext cx="0" cy="1025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15160" y="3548160"/>
            <a:ext cx="1452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67760" y="3543480"/>
            <a:ext cx="0" cy="12999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614920" y="4843440"/>
            <a:ext cx="17575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5605560" y="326196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605560" y="3257640"/>
            <a:ext cx="21524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63040" y="3262320"/>
            <a:ext cx="0" cy="1942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095800" y="5210280"/>
            <a:ext cx="2671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4584600"/>
            <a:ext cx="0" cy="7621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5AC6-A34E-4E22-A42A-15FFBFB98E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-2.22222E-006 -0.1463 E">
                                      <p:cBhvr>
                                        <p:cTn id="43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301 L 0.11806 -0.00301 E">
                                      <p:cBhvr>
                                        <p:cTn id="55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301 L 4.44444E-006 0.09329 E">
                                      <p:cBhvr>
                                        <p:cTn id="67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116 L -0.07761 -0.00116 E">
                                      <p:cBhvr>
                                        <p:cTn id="79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f “demand elasticity” &gt; “supply elasticity”, it will converge, otherwise n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PRI has to be solved iterative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asticities are chosen bases on economic criteria not to obtain converge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e will likely need some mechanism promote convergence in CAP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63D8-2A5D-4D21-A87B-FD7EA853C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</a:rPr>
              <a:t>Different ways of promoting converge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djustment cost: Additional production cost for deviating from the supply in the previous ste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ice expectation: Supply uses weighted average of prices in several previous step. Used in CAPR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rtial adjustment: Supply only moves a fraction of the way towards the optimum in each ste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pproximate supply functions used in market instead of fixed supply. Used in CAPR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7161-3651-4092-A6C4-0C4D4515D7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on of supply fun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implicit supply function is unkn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Difficult to derive for CAP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Has non-differential points (corners) </a:t>
            </a:r>
            <a:r>
              <a:rPr b="0" lang="en-GB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difficult to solve together with market mod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ume “any” simple supply function that approximates the supply mod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alibrate the parameters in each step so that the supply response of last step is reproduc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5AC4-9524-4DE0-BD5C-248E75195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ng supp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372560" y="4365720"/>
            <a:ext cx="1335600" cy="405720"/>
            <a:chOff x="4372560" y="4365720"/>
            <a:chExt cx="1335600" cy="405720"/>
          </a:xfrm>
        </p:grpSpPr>
        <p:sp>
          <p:nvSpPr>
            <p:cNvPr id="696" name=""/>
            <p:cNvSpPr/>
            <p:nvPr/>
          </p:nvSpPr>
          <p:spPr>
            <a:xfrm>
              <a:off x="437256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0680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84992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6084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7299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8992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29400" y="29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371000" y="482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018040" y="3238560"/>
            <a:ext cx="2489400" cy="1846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83200" y="3049560"/>
            <a:ext cx="2428920" cy="2176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816440" y="3257640"/>
            <a:ext cx="2671920" cy="1952640"/>
            <a:chOff x="4816440" y="3257640"/>
            <a:chExt cx="2671920" cy="1952640"/>
          </a:xfrm>
        </p:grpSpPr>
        <p:sp>
          <p:nvSpPr>
            <p:cNvPr id="708" name=""/>
            <p:cNvSpPr/>
            <p:nvPr/>
          </p:nvSpPr>
          <p:spPr>
            <a:xfrm>
              <a:off x="7088040" y="3543480"/>
              <a:ext cx="0" cy="12999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335560" y="4843440"/>
              <a:ext cx="175752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816440" y="3257640"/>
              <a:ext cx="2671920" cy="1952640"/>
              <a:chOff x="4816440" y="3257640"/>
              <a:chExt cx="2671920" cy="19526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5638680" y="3559320"/>
                <a:ext cx="0" cy="102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635800" y="3548160"/>
                <a:ext cx="1452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326200" y="3261960"/>
                <a:ext cx="0" cy="1576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326200" y="3257640"/>
                <a:ext cx="21524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83320" y="3262320"/>
                <a:ext cx="0" cy="1942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4816440" y="5210280"/>
                <a:ext cx="2671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97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sume the “explosive situation”…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65CB8-2C3A-4590-B17D-EF6E7EF34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05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Approximating supp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372560" y="4365720"/>
            <a:ext cx="1335600" cy="405720"/>
            <a:chOff x="4372560" y="4365720"/>
            <a:chExt cx="1335600" cy="405720"/>
          </a:xfrm>
        </p:grpSpPr>
        <p:sp>
          <p:nvSpPr>
            <p:cNvPr id="720" name=""/>
            <p:cNvSpPr/>
            <p:nvPr/>
          </p:nvSpPr>
          <p:spPr>
            <a:xfrm>
              <a:off x="4372560" y="4365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06800" y="4581360"/>
              <a:ext cx="801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849920" y="2925720"/>
            <a:ext cx="0" cy="266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60840" y="5373720"/>
            <a:ext cx="3384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299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8992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29400" y="29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71000" y="482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57760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018040" y="3238560"/>
            <a:ext cx="2489400" cy="18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83200" y="3049560"/>
            <a:ext cx="2428920" cy="2176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5943600" y="2476440"/>
            <a:ext cx="1609200" cy="2641320"/>
            <a:chOff x="5943600" y="2476440"/>
            <a:chExt cx="1609200" cy="2641320"/>
          </a:xfrm>
        </p:grpSpPr>
        <p:sp>
          <p:nvSpPr>
            <p:cNvPr id="732" name=""/>
            <p:cNvSpPr/>
            <p:nvPr/>
          </p:nvSpPr>
          <p:spPr>
            <a:xfrm flipV="1">
              <a:off x="5943600" y="2781000"/>
              <a:ext cx="1244520" cy="233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7560" y="247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s’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397480" y="2476440"/>
            <a:ext cx="1609200" cy="2641320"/>
            <a:chOff x="5397480" y="2476440"/>
            <a:chExt cx="1609200" cy="2641320"/>
          </a:xfrm>
        </p:grpSpPr>
        <p:sp>
          <p:nvSpPr>
            <p:cNvPr id="735" name=""/>
            <p:cNvSpPr/>
            <p:nvPr/>
          </p:nvSpPr>
          <p:spPr>
            <a:xfrm flipV="1">
              <a:off x="5397480" y="2781000"/>
              <a:ext cx="1244520" cy="233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61440" y="2476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s’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 flipV="1">
            <a:off x="5691240" y="3905280"/>
            <a:ext cx="347760" cy="676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33960" y="3905280"/>
            <a:ext cx="5572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405120" y="3905280"/>
            <a:ext cx="190440" cy="333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6148440" y="4238640"/>
            <a:ext cx="25704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153120" y="4090680"/>
            <a:ext cx="90360" cy="152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478120" y="4581360"/>
            <a:ext cx="380160" cy="1198080"/>
            <a:chOff x="5478120" y="4581360"/>
            <a:chExt cx="380160" cy="1198080"/>
          </a:xfrm>
        </p:grpSpPr>
        <p:sp>
          <p:nvSpPr>
            <p:cNvPr id="743" name=""/>
            <p:cNvSpPr/>
            <p:nvPr/>
          </p:nvSpPr>
          <p:spPr>
            <a:xfrm>
              <a:off x="5676840" y="4581360"/>
              <a:ext cx="0" cy="785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78120" y="53737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977080" y="3852720"/>
            <a:ext cx="10764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9600" y="45385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539040" y="38527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62640" y="41767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8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upply function is unknown (supply is a black box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ssume any supply func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tarting with some price, compute suppl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alibrate the assumed supply function to that poi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olve supply + demand simultaneously for new pric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terate…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E320-EE16-4C87-A9BF-27091231E4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7.03704E-006 L -0.05972 7.03704E-006 E">
                                      <p:cBhvr>
                                        <p:cTn id="23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8.14815E-006 L 0.05937 8.14815E-006 E">
                                      <p:cBhvr>
                                        <p:cTn id="269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55:56Z</dcterms:created>
  <dc:creator>Torbjörn Jansson</dc:creator>
  <dc:description/>
  <dc:language>en-US</dc:language>
  <cp:lastModifiedBy>Wolfgang 2</cp:lastModifiedBy>
  <cp:lastPrinted>2001-02-14T10:53:05Z</cp:lastPrinted>
  <dcterms:modified xsi:type="dcterms:W3CDTF">2008-10-23T06:33:42Z</dcterms:modified>
  <cp:revision>198</cp:revision>
  <dc:subject/>
  <dc:title>CAPRI Common Agricultural Policy Regional Impa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