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2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047-6E76-480B-BA71-251E4A09E226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207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221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222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237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4240" y="6583320"/>
            <a:ext cx="29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99"/>
                </a:solidFill>
                <a:latin typeface="Arial"/>
              </a:rPr>
              <a:t>CAPRI Training Session Warsaw 200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77360" y="277812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ntroduction to policy instru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gime III: over quota im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407960" y="1206360"/>
            <a:ext cx="0" cy="43308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420920" y="5549760"/>
            <a:ext cx="6172200" cy="129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77840" y="3568680"/>
            <a:ext cx="30988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077840" y="4267080"/>
            <a:ext cx="6515280" cy="129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9040" y="404640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176720" y="1917720"/>
            <a:ext cx="0" cy="1650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76720" y="1917720"/>
            <a:ext cx="31114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7440" y="3271680"/>
            <a:ext cx="10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= 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 +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76720" y="3568680"/>
            <a:ext cx="0" cy="21207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03720" y="3581280"/>
            <a:ext cx="88920" cy="673200"/>
          </a:xfrm>
          <a:custGeom>
            <a:avLst/>
            <a:gdLst>
              <a:gd name="textAreaLeft" fmla="*/ 0 w 88920"/>
              <a:gd name="textAreaRight" fmla="*/ 32040 w 88920"/>
              <a:gd name="textAreaTop" fmla="*/ 17280 h 673200"/>
              <a:gd name="textAreaBottom" fmla="*/ 65592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30440" y="375444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03720" y="1955880"/>
            <a:ext cx="42840" cy="1562040"/>
          </a:xfrm>
          <a:custGeom>
            <a:avLst/>
            <a:gdLst>
              <a:gd name="textAreaLeft" fmla="*/ 0 w 42840"/>
              <a:gd name="textAreaRight" fmla="*/ 15480 w 4284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29440" y="57103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=Quot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46920" y="5392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68880" y="952560"/>
            <a:ext cx="1828800" cy="2070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160" y="846000"/>
            <a:ext cx="128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deman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09760" y="1917720"/>
            <a:ext cx="2743200" cy="163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r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03080" y="25988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Over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32520" y="1917720"/>
            <a:ext cx="0" cy="3822840"/>
          </a:xfrm>
          <a:prstGeom prst="line">
            <a:avLst/>
          </a:prstGeom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63880" y="5761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147680" y="1905120"/>
            <a:ext cx="2959200" cy="0"/>
          </a:xfrm>
          <a:prstGeom prst="line">
            <a:avLst/>
          </a:prstGeom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5480" y="1582560"/>
            <a:ext cx="74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aid fo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gime II: binding TRQ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30120" y="658332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TRQ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407960" y="1206360"/>
            <a:ext cx="0" cy="43308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20920" y="5549760"/>
            <a:ext cx="6172200" cy="129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7840" y="3568680"/>
            <a:ext cx="30988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077840" y="4267080"/>
            <a:ext cx="6515280" cy="129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040" y="404640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176720" y="1917720"/>
            <a:ext cx="0" cy="1650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76720" y="1917720"/>
            <a:ext cx="31114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7440" y="3271680"/>
            <a:ext cx="10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= 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 +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76720" y="3568680"/>
            <a:ext cx="0" cy="21207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03720" y="3581280"/>
            <a:ext cx="88920" cy="673200"/>
          </a:xfrm>
          <a:custGeom>
            <a:avLst/>
            <a:gdLst>
              <a:gd name="textAreaLeft" fmla="*/ 0 w 88920"/>
              <a:gd name="textAreaRight" fmla="*/ 32040 w 88920"/>
              <a:gd name="textAreaTop" fmla="*/ 17280 h 673200"/>
              <a:gd name="textAreaBottom" fmla="*/ 65592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30440" y="375444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03720" y="2781360"/>
            <a:ext cx="76320" cy="736560"/>
          </a:xfrm>
          <a:custGeom>
            <a:avLst/>
            <a:gdLst>
              <a:gd name="textAreaLeft" fmla="*/ 0 w 76320"/>
              <a:gd name="textAreaRight" fmla="*/ 27360 w 76320"/>
              <a:gd name="textAreaTop" fmla="*/ 19080 h 736560"/>
              <a:gd name="textAreaBottom" fmla="*/ 717480 h 7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29440" y="57103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=Quot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846920" y="5392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84400" y="1460520"/>
            <a:ext cx="1828800" cy="2070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01720" y="1341360"/>
            <a:ext cx="128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deman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09760" y="2781360"/>
            <a:ext cx="2743200" cy="774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r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25760" y="2954160"/>
            <a:ext cx="312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Difference between marginal willingness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to pay and import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206360" y="2781360"/>
            <a:ext cx="2959200" cy="0"/>
          </a:xfrm>
          <a:prstGeom prst="line">
            <a:avLst/>
          </a:prstGeom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4160" y="2459160"/>
            <a:ext cx="74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aid fo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y are TRQs important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countries with high MFN rates as the EU, larger share of imports occur under TRQ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alistic simulations of effect of changes in border protection only possible if TRQs taken into account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 change in the in-quota or over-quota (MFN) tariff may not provoke any changes in import quantities or pric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TO proposes to expand binding TRQ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eference erosion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ducing the MFN tariff reduces r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many cases, (L)LDC “own” quotas and thus loose incom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at are the problems with TRQ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many cases, TRQ relate to specific tariff lines which are more dis-aggregated as the model’s product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aggregated product is mix of TRQ and tariff only reg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ending on quota administration, the observed fill rate may not be an indicator for the reg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ota may be allocated to single countries or even firms, but the information may be not availab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inked” functional relationship leads to dis-continous derivatives of the Langrangian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not suitable for gradient based solvers =&gt; “fudging” func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Kinked” policy instrume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920" y="1046160"/>
            <a:ext cx="840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olution either by “Mixed-Complementary Programming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+ Complementary slackness conditions defined explicit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- Require specific solve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Or by “fudging functions” which smooth out kink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+ no switch of solver necessa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+ no 0/I solution by behavioural functions for policy ag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- steep derivatives can render solution difficult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 “fudging” func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5360" y="1295280"/>
            <a:ext cx="834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gmoid function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1473120" y="1930320"/>
                <a:ext cx="5359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moi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/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495360" y="3124080"/>
            <a:ext cx="8343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ymmetric S-shaped for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verall differentiab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etween 0 (if x = -</a:t>
            </a:r>
            <a:r>
              <a:rPr b="0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 and 1 (if x = +</a:t>
            </a:r>
            <a:r>
              <a:rPr b="0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buClr>
                <a:srgbClr val="ff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gmoid(0) = 0.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4746600" y="3854160"/>
            <a:ext cx="4092480" cy="2487240"/>
            <a:chOff x="4746600" y="3854160"/>
            <a:chExt cx="4092480" cy="2487240"/>
          </a:xfrm>
        </p:grpSpPr>
        <p:sp>
          <p:nvSpPr>
            <p:cNvPr id="709" name=""/>
            <p:cNvSpPr/>
            <p:nvPr/>
          </p:nvSpPr>
          <p:spPr>
            <a:xfrm>
              <a:off x="8056800" y="49525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477120" y="4165200"/>
              <a:ext cx="0" cy="17780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29200" y="5908680"/>
              <a:ext cx="35305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55760" y="385416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Sigmoid(x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6120" y="5926680"/>
              <a:ext cx="66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64200" y="4435560"/>
              <a:ext cx="2641680" cy="0"/>
            </a:xfrm>
            <a:prstGeom prst="line">
              <a:avLst/>
            </a:prstGeom>
            <a:ln cap="rnd" w="93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086680" y="4266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72200" y="6003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424720" y="5790960"/>
              <a:ext cx="41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46600" y="5942520"/>
              <a:ext cx="66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130720" y="5181480"/>
              <a:ext cx="2641680" cy="0"/>
            </a:xfrm>
            <a:prstGeom prst="line">
              <a:avLst/>
            </a:prstGeom>
            <a:ln cap="rnd" w="9360">
              <a:solidFill>
                <a:srgbClr val="ff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29200" y="4419720"/>
              <a:ext cx="2743200" cy="1447560"/>
            </a:xfrm>
            <a:custGeom>
              <a:avLst/>
              <a:gdLst/>
              <a:ahLst/>
              <a:rect l="l" t="t" r="r" b="b"/>
              <a:pathLst>
                <a:path w="1728" h="888">
                  <a:moveTo>
                    <a:pt x="0" y="888"/>
                  </a:moveTo>
                  <a:cubicBezTo>
                    <a:pt x="308" y="852"/>
                    <a:pt x="616" y="816"/>
                    <a:pt x="768" y="744"/>
                  </a:cubicBezTo>
                  <a:cubicBezTo>
                    <a:pt x="920" y="672"/>
                    <a:pt x="864" y="568"/>
                    <a:pt x="912" y="456"/>
                  </a:cubicBezTo>
                  <a:cubicBezTo>
                    <a:pt x="960" y="344"/>
                    <a:pt x="920" y="144"/>
                    <a:pt x="1056" y="72"/>
                  </a:cubicBezTo>
                  <a:cubicBezTo>
                    <a:pt x="1192" y="0"/>
                    <a:pt x="1616" y="32"/>
                    <a:pt x="1728" y="24"/>
                  </a:cubicBez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How are TRQs modelled in CAPRI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30120" y="658332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TRQ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6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type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Bi-laterally allocated TRQs: open only for specific trading partners (TRQREG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RQs open to everybody who has no bi-lateral TRQ (TRQWOR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hat data are stored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RQNT: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quota quant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sMFN: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pecific tariff MFN (over quota tariff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MFN: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d valorem tariff MFN (over quota tariff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sPref: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ferential specific tariff (in quota tariff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Pref: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ferential ad valorem tariff (in quota  tariff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ere can I find the results on TRQs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357120" y="2324160"/>
            <a:ext cx="8400960" cy="3136680"/>
          </a:xfrm>
          <a:prstGeom prst="rect">
            <a:avLst/>
          </a:prstGeom>
          <a:ln w="0">
            <a:noFill/>
          </a:ln>
        </p:spPr>
      </p:pic>
      <p:grpSp>
        <p:nvGrpSpPr>
          <p:cNvPr id="726" name=""/>
          <p:cNvGrpSpPr/>
          <p:nvPr/>
        </p:nvGrpSpPr>
        <p:grpSpPr>
          <a:xfrm>
            <a:off x="4257360" y="5410080"/>
            <a:ext cx="2742480" cy="839160"/>
            <a:chOff x="4257360" y="5410080"/>
            <a:chExt cx="2742480" cy="839160"/>
          </a:xfrm>
        </p:grpSpPr>
        <p:sp>
          <p:nvSpPr>
            <p:cNvPr id="727" name=""/>
            <p:cNvSpPr/>
            <p:nvPr/>
          </p:nvSpPr>
          <p:spPr>
            <a:xfrm>
              <a:off x="4257360" y="5942160"/>
              <a:ext cx="274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MFN-rates = Over quota tariff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762440" y="5423040"/>
              <a:ext cx="1841400" cy="52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762440" y="5410080"/>
              <a:ext cx="177840" cy="4953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67840" y="925560"/>
            <a:ext cx="3390120" cy="3544920"/>
            <a:chOff x="267840" y="925560"/>
            <a:chExt cx="3390120" cy="3544920"/>
          </a:xfrm>
        </p:grpSpPr>
        <p:sp>
          <p:nvSpPr>
            <p:cNvPr id="731" name=""/>
            <p:cNvSpPr/>
            <p:nvPr/>
          </p:nvSpPr>
          <p:spPr>
            <a:xfrm>
              <a:off x="977760" y="1244520"/>
              <a:ext cx="1625760" cy="30355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65160" y="1282680"/>
              <a:ext cx="1422360" cy="318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7840" y="925560"/>
              <a:ext cx="339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1) Who is benefiting from preference?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437840" y="1255680"/>
            <a:ext cx="2963520" cy="2529000"/>
            <a:chOff x="1437840" y="1255680"/>
            <a:chExt cx="2963520" cy="2529000"/>
          </a:xfrm>
        </p:grpSpPr>
        <p:sp>
          <p:nvSpPr>
            <p:cNvPr id="735" name=""/>
            <p:cNvSpPr/>
            <p:nvPr/>
          </p:nvSpPr>
          <p:spPr>
            <a:xfrm>
              <a:off x="1437840" y="1255680"/>
              <a:ext cx="296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2) What is the maximal quantity</a:t>
              </a:r>
              <a:br>
                <a:rPr sz="1400"/>
              </a:b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benefiting from the preferences?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08160" y="1778040"/>
              <a:ext cx="1155600" cy="2006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523320" y="1751040"/>
            <a:ext cx="2300760" cy="2770200"/>
            <a:chOff x="3523320" y="1751040"/>
            <a:chExt cx="2300760" cy="2770200"/>
          </a:xfrm>
        </p:grpSpPr>
        <p:sp>
          <p:nvSpPr>
            <p:cNvPr id="738" name=""/>
            <p:cNvSpPr/>
            <p:nvPr/>
          </p:nvSpPr>
          <p:spPr>
            <a:xfrm>
              <a:off x="3523320" y="1751040"/>
              <a:ext cx="23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3) How much is imported</a:t>
              </a:r>
              <a:br>
                <a:rPr sz="1400"/>
              </a:b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total?/with preferences?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84680" y="2222640"/>
              <a:ext cx="12600" cy="1879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216320" y="2197080"/>
              <a:ext cx="711360" cy="20829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203720" y="2235240"/>
              <a:ext cx="711360" cy="2286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01080" y="5321160"/>
            <a:ext cx="5105880" cy="915120"/>
            <a:chOff x="901080" y="5321160"/>
            <a:chExt cx="5105880" cy="915120"/>
          </a:xfrm>
        </p:grpSpPr>
        <p:sp>
          <p:nvSpPr>
            <p:cNvPr id="743" name=""/>
            <p:cNvSpPr/>
            <p:nvPr/>
          </p:nvSpPr>
          <p:spPr>
            <a:xfrm>
              <a:off x="901080" y="5929200"/>
              <a:ext cx="308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Preferential rates = in quota tariff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222640" y="5372280"/>
              <a:ext cx="2273040" cy="6220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273400" y="5321160"/>
              <a:ext cx="3733560" cy="673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5401440" y="950760"/>
            <a:ext cx="2243880" cy="3138480"/>
            <a:chOff x="5401440" y="950760"/>
            <a:chExt cx="2243880" cy="3138480"/>
          </a:xfrm>
        </p:grpSpPr>
        <p:sp>
          <p:nvSpPr>
            <p:cNvPr id="747" name=""/>
            <p:cNvSpPr/>
            <p:nvPr/>
          </p:nvSpPr>
          <p:spPr>
            <a:xfrm>
              <a:off x="5401440" y="950760"/>
              <a:ext cx="206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4) What is the value of</a:t>
              </a:r>
              <a:br>
                <a:rPr sz="1400"/>
              </a:b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the economic rents?</a:t>
              </a:r>
              <a:br>
                <a:rPr sz="1400"/>
              </a:b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92840" y="1434960"/>
              <a:ext cx="1752480" cy="2654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332120" y="1268280"/>
            <a:ext cx="1812960" cy="2846520"/>
            <a:chOff x="7332120" y="1268280"/>
            <a:chExt cx="1812960" cy="2846520"/>
          </a:xfrm>
        </p:grpSpPr>
        <p:sp>
          <p:nvSpPr>
            <p:cNvPr id="750" name=""/>
            <p:cNvSpPr/>
            <p:nvPr/>
          </p:nvSpPr>
          <p:spPr>
            <a:xfrm>
              <a:off x="7332120" y="1268280"/>
              <a:ext cx="1812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5) What is rent per</a:t>
              </a:r>
              <a:br>
                <a:rPr sz="1400"/>
              </a:b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ton imported under</a:t>
              </a:r>
              <a:br>
                <a:rPr sz="1400"/>
              </a:b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preferences?</a:t>
              </a:r>
              <a:br>
                <a:rPr sz="1400"/>
              </a:b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40680" y="1981080"/>
              <a:ext cx="241200" cy="21337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574640" y="2311560"/>
            <a:ext cx="415296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lexible levy or minimum import pri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864040" y="1663200"/>
            <a:ext cx="290988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pplied tariffs which are adjusted so that a minimum import price is guaranteed. They may be upper bounded by the WTO bound rat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701720" y="1485720"/>
            <a:ext cx="0" cy="34542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1720" y="4927680"/>
            <a:ext cx="36576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714680" y="1460520"/>
            <a:ext cx="3301920" cy="3467160"/>
            <a:chOff x="1714680" y="1460520"/>
            <a:chExt cx="3301920" cy="3467160"/>
          </a:xfrm>
        </p:grpSpPr>
        <p:sp>
          <p:nvSpPr>
            <p:cNvPr id="758" name=""/>
            <p:cNvSpPr/>
            <p:nvPr/>
          </p:nvSpPr>
          <p:spPr>
            <a:xfrm flipH="1">
              <a:off x="1714680" y="1460520"/>
              <a:ext cx="3301920" cy="34671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68200" y="2725560"/>
              <a:ext cx="133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Border price</a:t>
              </a:r>
              <a:br>
                <a:rPr sz="1200"/>
              </a:b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= 45 degree lin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1562040" y="3251160"/>
            <a:ext cx="1065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8720" y="2014560"/>
            <a:ext cx="106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Minimal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(mip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6520" y="3056040"/>
            <a:ext cx="9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Maximum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tariff (max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27520" y="2311560"/>
            <a:ext cx="2401560" cy="3540240"/>
            <a:chOff x="227520" y="2311560"/>
            <a:chExt cx="2401560" cy="3540240"/>
          </a:xfrm>
        </p:grpSpPr>
        <p:sp>
          <p:nvSpPr>
            <p:cNvPr id="764" name=""/>
            <p:cNvSpPr/>
            <p:nvPr/>
          </p:nvSpPr>
          <p:spPr>
            <a:xfrm flipH="1">
              <a:off x="1701360" y="2311560"/>
              <a:ext cx="925560" cy="952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29080" y="2336760"/>
              <a:ext cx="0" cy="2666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2019240" y="467352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11160" y="5392800"/>
              <a:ext cx="71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t=max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p&lt;mip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7520" y="5367240"/>
              <a:ext cx="134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ied tariff at: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mport price ip: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627280" y="2324160"/>
            <a:ext cx="1538280" cy="3515040"/>
            <a:chOff x="2627280" y="2324160"/>
            <a:chExt cx="1538280" cy="3515040"/>
          </a:xfrm>
        </p:grpSpPr>
        <p:sp>
          <p:nvSpPr>
            <p:cNvPr id="770" name=""/>
            <p:cNvSpPr/>
            <p:nvPr/>
          </p:nvSpPr>
          <p:spPr>
            <a:xfrm>
              <a:off x="2627280" y="2324160"/>
              <a:ext cx="15368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27280" y="3263760"/>
              <a:ext cx="1538280" cy="165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17800" y="3906720"/>
              <a:ext cx="1149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Applied tariff</a:t>
              </a:r>
              <a:br>
                <a:rPr sz="1200"/>
              </a:br>
              <a:r>
                <a:rPr b="1" lang="en-US" sz="1200" spc="-1" strike="noStrike">
                  <a:solidFill>
                    <a:srgbClr val="ffff99"/>
                  </a:solidFill>
                  <a:latin typeface="Arial"/>
                </a:rPr>
                <a:t>(flexible levy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65560" y="2349360"/>
              <a:ext cx="0" cy="2667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5400000">
              <a:off x="3250800" y="4330440"/>
              <a:ext cx="304560" cy="1498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11760" y="5380200"/>
              <a:ext cx="87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x&gt;at&gt;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p=mip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895560" y="1397160"/>
            <a:ext cx="1817640" cy="3860640"/>
            <a:chOff x="3895560" y="1397160"/>
            <a:chExt cx="1817640" cy="3860640"/>
          </a:xfrm>
        </p:grpSpPr>
        <p:sp>
          <p:nvSpPr>
            <p:cNvPr id="777" name=""/>
            <p:cNvSpPr/>
            <p:nvPr/>
          </p:nvSpPr>
          <p:spPr>
            <a:xfrm flipH="1">
              <a:off x="4152600" y="1397160"/>
              <a:ext cx="925560" cy="952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95560" y="1646280"/>
              <a:ext cx="181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Import price</a:t>
              </a:r>
              <a:br>
                <a:rPr sz="1200"/>
              </a:b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= Border prices + tariff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4800240" y="4356000"/>
              <a:ext cx="304920" cy="1498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8880 h 1498680"/>
                <a:gd name="textAreaBottom" fmla="*/ 1459800 h 14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606200" y="5367240"/>
            <a:ext cx="67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=0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p&gt;mip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y are flexible levies importa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the typical range where the applied rate is above zero, but below the bound rate, the price transmission from border to market is zero: only the tariff is adjusted when the border price chang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 change in the bound rate may not provoke changes in import prices (specific case of “water under the tariffs”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ed in important EU markets (some coarse grains, sugar, vegetabl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mply using the bound rate overestimates import prices and effects of trade liber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3880" y="1587600"/>
            <a:ext cx="816444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ducts:40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gions : 18 trade blocks  (EU15, EU10, USA, CAN, ANZ, ACP, LDC, ROW, Mediterranean and  Mercosur broken down to in single countri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EU regions broken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own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in Member Sta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olicy variables: tariff rate quotas (global), subsidised exports, sales to intervention stocks, Minimum import prices (EU25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ubsidised exports for EU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strument to increase competitiveness of EU exports in international marke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rease import demand for EU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timulates expor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creases market pressure in EU marke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rease EU market pric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-called market comities decide in regular intervals upon amount of subsidy, but decision criteria defined in CMOs are vagu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antities and values of subsidized exports are upper bounded since the WTO Uruguay round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-called commitme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ata on subsidised exports for EU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EOGA budget delivers yearly budget outlay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U notifies to WTO quantities, budget outlays and commitme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delling subsidised exports for EU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model cannot make a distinction between subsidized and non-subsidized exports to a specific destin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the base period, a mix subsidized and non-subsidized exports takes plac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e don’t possess data to distinguish the subsidy by destin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ll exports receive the same subsid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alue limits are integrated in the model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s the observed mix of export with and without subsidies cannot be model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unction for subsidised expor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74680" y="2119320"/>
            <a:ext cx="63846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EXPSVAL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value of subsidies pai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FEOE_ma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WTO commitment on subsidies pai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defines steepness of function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ercentage of administrative price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PADM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br>
              <a:rPr sz="1800"/>
            </a:b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t which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EXPSVAL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  is 50% of </a:t>
            </a:r>
            <a:r>
              <a:rPr b="0" i="1" lang="en-GB" sz="1800" spc="-1" strike="noStrike">
                <a:solidFill>
                  <a:srgbClr val="ffff99"/>
                </a:solidFill>
                <a:latin typeface="Arial"/>
              </a:rPr>
              <a:t>FEOE_MAX</a:t>
            </a:r>
            <a:r>
              <a:rPr b="0" lang="en-GB" sz="18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42800" y="961920"/>
                <a:ext cx="82425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psVa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OE_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Mr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D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D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5" name=""/>
          <p:cNvGrpSpPr/>
          <p:nvPr/>
        </p:nvGrpSpPr>
        <p:grpSpPr>
          <a:xfrm>
            <a:off x="1695600" y="3808080"/>
            <a:ext cx="5695560" cy="2520720"/>
            <a:chOff x="1695600" y="3808080"/>
            <a:chExt cx="5695560" cy="2520720"/>
          </a:xfrm>
        </p:grpSpPr>
        <p:sp>
          <p:nvSpPr>
            <p:cNvPr id="796" name=""/>
            <p:cNvSpPr/>
            <p:nvPr/>
          </p:nvSpPr>
          <p:spPr>
            <a:xfrm>
              <a:off x="1695600" y="47080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</a:t>
              </a:r>
              <a:r>
                <a:rPr b="1" lang="de-DE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ffff99"/>
                  </a:solidFill>
                  <a:latin typeface="Arial"/>
                </a:rPr>
                <a:t>PADM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883880" y="3808080"/>
              <a:ext cx="5507280" cy="2520720"/>
              <a:chOff x="1883880" y="3808080"/>
              <a:chExt cx="5507280" cy="2520720"/>
            </a:xfrm>
          </p:grpSpPr>
          <p:sp>
            <p:nvSpPr>
              <p:cNvPr id="798" name=""/>
              <p:cNvSpPr/>
              <p:nvPr/>
            </p:nvSpPr>
            <p:spPr>
              <a:xfrm flipV="1">
                <a:off x="2692080" y="4215960"/>
                <a:ext cx="0" cy="1778040"/>
              </a:xfrm>
              <a:prstGeom prst="line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77960" y="5918400"/>
                <a:ext cx="3530520" cy="0"/>
              </a:xfrm>
              <a:prstGeom prst="line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70240" y="380808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fff99"/>
                    </a:solidFill>
                    <a:latin typeface="Arial"/>
                  </a:rPr>
                  <a:t>PMrk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264000" y="5723640"/>
                <a:ext cx="112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ffff99"/>
                    </a:solidFill>
                    <a:latin typeface="Arial"/>
                  </a:rPr>
                  <a:t>EXPSVAL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3440" y="6052320"/>
                <a:ext cx="1127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200" spc="-1" strike="noStrike">
                    <a:solidFill>
                      <a:srgbClr val="ffff99"/>
                    </a:solidFill>
                    <a:latin typeface="Arial"/>
                  </a:rPr>
                  <a:t>FEOE_MAX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143320" y="4240440"/>
                <a:ext cx="0" cy="1752480"/>
              </a:xfrm>
              <a:prstGeom prst="line">
                <a:avLst/>
              </a:prstGeom>
              <a:ln w="936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90560" y="4444920"/>
                <a:ext cx="2641680" cy="0"/>
              </a:xfrm>
              <a:prstGeom prst="line">
                <a:avLst/>
              </a:prstGeom>
              <a:ln cap="rnd" w="9360">
                <a:solidFill>
                  <a:srgbClr val="ff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883880" y="4276440"/>
                <a:ext cx="77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600" spc="-1" strike="noStrike">
                    <a:solidFill>
                      <a:srgbClr val="ffff99"/>
                    </a:solidFill>
                    <a:latin typeface="Arial"/>
                  </a:rPr>
                  <a:t>PADM</a:t>
                </a:r>
                <a:endParaRPr b="0" lang="en-US" sz="16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90560" y="4876920"/>
                <a:ext cx="2641680" cy="0"/>
              </a:xfrm>
              <a:prstGeom prst="line">
                <a:avLst/>
              </a:prstGeom>
              <a:ln cap="rnd" w="9360">
                <a:solidFill>
                  <a:srgbClr val="ff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47880" y="4119480"/>
                <a:ext cx="2430360" cy="1791000"/>
              </a:xfrm>
              <a:custGeom>
                <a:avLst/>
                <a:gdLst/>
                <a:ahLst/>
                <a:rect l="l" t="t" r="r" b="b"/>
                <a:pathLst>
                  <a:path w="1531" h="1128">
                    <a:moveTo>
                      <a:pt x="0" y="0"/>
                    </a:moveTo>
                    <a:cubicBezTo>
                      <a:pt x="21" y="44"/>
                      <a:pt x="11" y="191"/>
                      <a:pt x="129" y="270"/>
                    </a:cubicBezTo>
                    <a:cubicBezTo>
                      <a:pt x="247" y="349"/>
                      <a:pt x="499" y="399"/>
                      <a:pt x="711" y="477"/>
                    </a:cubicBezTo>
                    <a:cubicBezTo>
                      <a:pt x="923" y="555"/>
                      <a:pt x="1267" y="633"/>
                      <a:pt x="1399" y="741"/>
                    </a:cubicBezTo>
                    <a:cubicBezTo>
                      <a:pt x="1531" y="849"/>
                      <a:pt x="1481" y="1047"/>
                      <a:pt x="1503" y="112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144600" y="6044400"/>
                <a:ext cx="146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ffff99"/>
                    </a:solidFill>
                    <a:latin typeface="Arial"/>
                  </a:rPr>
                  <a:t>50% FEOE_MAX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3881160" y="4235040"/>
                <a:ext cx="0" cy="1752840"/>
              </a:xfrm>
              <a:prstGeom prst="line">
                <a:avLst/>
              </a:prstGeom>
              <a:ln w="936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delling subsidised exports for EU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ssumption to define parameters of function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unction depends on EU market prices  and administrative ones: the lower the market price relative to the administrative one, the higher the value of the subsidi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parameter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teepness of response to prices change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id point of func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unction recovers values of subsidized exports for the base year perio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99"/>
              </a:buClr>
              <a:buFont typeface="Wingdings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ne degree of freedom lef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99"/>
              </a:buClr>
              <a:buFont typeface="Wingdings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 second point is constructed by assuming that only 5% of commitment is used at 125% of administrative pric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ather rapid response to price chang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here to find results on subsidised export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270000" y="2092320"/>
            <a:ext cx="7027560" cy="19620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66040" y="1420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able: FEGO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590280" y="1395360"/>
            <a:ext cx="1746000" cy="1728720"/>
            <a:chOff x="3590280" y="1395360"/>
            <a:chExt cx="1746000" cy="1728720"/>
          </a:xfrm>
        </p:grpSpPr>
        <p:sp>
          <p:nvSpPr>
            <p:cNvPr id="819" name=""/>
            <p:cNvSpPr/>
            <p:nvPr/>
          </p:nvSpPr>
          <p:spPr>
            <a:xfrm>
              <a:off x="3590280" y="1395360"/>
              <a:ext cx="17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Value of subsidie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088880" y="1752480"/>
              <a:ext cx="127080" cy="13716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tervention purchas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strument to stabilize market pric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f certain trigger prices are undercut, public purchases into intervention stocks take place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=&gt; additional demand, price drops are soften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 higher market prices, stocks will be released, increase supply and dampen price increa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blems for modeling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rvention may react to short-time price fluctu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mplex legislation defining the trigger prices depending on short time price nota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ow are intervention stocks model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variabl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ntervention purchas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probability of market prices to undercut administrative ones times maximum intervention purcha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ntervention releas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(1-probability of market prices to undercut administrative ones) times probability of market price to exceed unit value exports without subsidies times times intervention stock siz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ntervention stock size: start size + purchases - releases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486080" y="3162240"/>
            <a:ext cx="1358640" cy="851040"/>
          </a:xfrm>
          <a:custGeom>
            <a:avLst/>
            <a:gdLst/>
            <a:ahLst/>
            <a:rect l="l" t="t" r="r" b="b"/>
            <a:pathLst>
              <a:path w="856" h="592">
                <a:moveTo>
                  <a:pt x="328" y="544"/>
                </a:moveTo>
                <a:lnTo>
                  <a:pt x="496" y="512"/>
                </a:lnTo>
                <a:lnTo>
                  <a:pt x="856" y="0"/>
                </a:lnTo>
                <a:lnTo>
                  <a:pt x="856" y="584"/>
                </a:lnTo>
                <a:lnTo>
                  <a:pt x="0" y="592"/>
                </a:lnTo>
                <a:lnTo>
                  <a:pt x="328" y="544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ow are intervention stocks model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81080" y="4013280"/>
            <a:ext cx="29466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019240" y="2630520"/>
            <a:ext cx="2247840" cy="1314360"/>
          </a:xfrm>
          <a:custGeom>
            <a:avLst/>
            <a:gdLst/>
            <a:ahLst/>
            <a:rect l="l" t="t" r="r" b="b"/>
            <a:pathLst>
              <a:path w="1416" h="828">
                <a:moveTo>
                  <a:pt x="0" y="807"/>
                </a:moveTo>
                <a:cubicBezTo>
                  <a:pt x="52" y="817"/>
                  <a:pt x="105" y="828"/>
                  <a:pt x="240" y="695"/>
                </a:cubicBezTo>
                <a:cubicBezTo>
                  <a:pt x="375" y="562"/>
                  <a:pt x="612" y="0"/>
                  <a:pt x="808" y="7"/>
                </a:cubicBezTo>
                <a:cubicBezTo>
                  <a:pt x="1004" y="14"/>
                  <a:pt x="1299" y="608"/>
                  <a:pt x="1416" y="735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01440" y="985680"/>
            <a:ext cx="247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ssumed normal distribution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round current EU market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63560" y="3137040"/>
            <a:ext cx="990720" cy="5587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4720" y="2654280"/>
            <a:ext cx="0" cy="14605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98520" y="211608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dministrativ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2590920"/>
            <a:ext cx="0" cy="157464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8720" y="41860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ndogenous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market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47880" y="2522520"/>
            <a:ext cx="162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obability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to undercut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administrative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339720" y="1371600"/>
            <a:ext cx="927000" cy="12319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35440" y="2590920"/>
            <a:ext cx="0" cy="154944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33760" y="207792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Export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unit valu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48040" y="3187800"/>
            <a:ext cx="939960" cy="825480"/>
          </a:xfrm>
          <a:custGeom>
            <a:avLst/>
            <a:gdLst/>
            <a:ahLst/>
            <a:rect l="l" t="t" r="r" b="b"/>
            <a:pathLst>
              <a:path w="592" h="520">
                <a:moveTo>
                  <a:pt x="0" y="0"/>
                </a:moveTo>
                <a:lnTo>
                  <a:pt x="8" y="512"/>
                </a:lnTo>
                <a:lnTo>
                  <a:pt x="592" y="520"/>
                </a:lnTo>
                <a:lnTo>
                  <a:pt x="264" y="384"/>
                </a:lnTo>
                <a:lnTo>
                  <a:pt x="192" y="296"/>
                </a:lnTo>
                <a:lnTo>
                  <a:pt x="120" y="16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076280" y="3213000"/>
            <a:ext cx="1498680" cy="5842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090040" y="2319480"/>
            <a:ext cx="14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obability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to exceed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unit value exports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without subsid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ere to find results on intervention stock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2778120"/>
            <a:ext cx="8961480" cy="178740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59760" y="540864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Final stock size = start size + purchases - releas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057320" y="4343400"/>
            <a:ext cx="1066680" cy="1054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73080" y="501480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Changes = Purchases - releas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3190680" y="4330800"/>
            <a:ext cx="228600" cy="761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7160" y="1725480"/>
            <a:ext cx="37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echnical costs=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(Size in base year + simulated final size)/2</a:t>
            </a:r>
            <a:br>
              <a:rPr sz="1400"/>
            </a:b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x costs per t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24280" y="2260440"/>
            <a:ext cx="314964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04560" y="925560"/>
            <a:ext cx="373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Financial costs=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(Size in base year x base year pri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+ simulated final size x final price)/2 x 4%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8720" y="1612800"/>
            <a:ext cx="4051440" cy="1650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41640" y="938160"/>
            <a:ext cx="317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Depreciation=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(Market prices – unit value export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x final siz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62560" y="1600200"/>
            <a:ext cx="2171880" cy="1650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137280" y="1496880"/>
            <a:ext cx="27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Other=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Purchases x Admin. Pri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releases x unit value export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97800" y="2197080"/>
            <a:ext cx="1028520" cy="1028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12400" y="49766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Table: FEGOA STOCK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wo Stage Armingt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124080" y="4013280"/>
            <a:ext cx="4775400" cy="2082600"/>
            <a:chOff x="3124080" y="4013280"/>
            <a:chExt cx="4775400" cy="2082600"/>
          </a:xfrm>
        </p:grpSpPr>
        <p:sp>
          <p:nvSpPr>
            <p:cNvPr id="561" name=""/>
            <p:cNvSpPr/>
            <p:nvPr/>
          </p:nvSpPr>
          <p:spPr>
            <a:xfrm>
              <a:off x="3124080" y="5334120"/>
              <a:ext cx="2070360" cy="76176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Streams(R,R</a:t>
              </a:r>
              <a:r>
                <a:rPr b="1" lang="en-GB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,XX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29480" y="5334120"/>
              <a:ext cx="2070000" cy="76176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Streams(R,R</a:t>
              </a:r>
              <a:r>
                <a:rPr b="1" lang="en-GB" sz="1600" spc="-1" strike="noStrike" baseline="-25000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,XX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24400" y="55605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....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3400560" y="4013280"/>
                  <a:ext cx="42465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Imports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p</m:t>
                      </m:r>
                      <m:sSub>
                        <m:e>
                          <m:r>
                            <m:t xml:space="preserve">2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treams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ρ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ρ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565" name=""/>
            <p:cNvCxnSpPr>
              <a:stCxn id="561" idx="0"/>
            </p:cNvCxnSpPr>
            <p:nvPr/>
          </p:nvCxnSpPr>
          <p:spPr>
            <a:xfrm flipV="1">
              <a:off x="4158720" y="4734720"/>
              <a:ext cx="1365840" cy="5994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66" name=""/>
            <p:cNvCxnSpPr>
              <a:stCxn id="562" idx="0"/>
            </p:cNvCxnSpPr>
            <p:nvPr/>
          </p:nvCxnSpPr>
          <p:spPr>
            <a:xfrm flipH="1" flipV="1">
              <a:off x="5524200" y="4734720"/>
              <a:ext cx="1340640" cy="5994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67" name=""/>
            <p:cNvCxnSpPr>
              <a:stCxn id="563" idx="0"/>
            </p:cNvCxnSpPr>
            <p:nvPr/>
          </p:nvCxnSpPr>
          <p:spPr>
            <a:xfrm flipH="1" flipV="1">
              <a:off x="5523840" y="4734720"/>
              <a:ext cx="3960" cy="8262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568" name=""/>
          <p:cNvGrpSpPr/>
          <p:nvPr/>
        </p:nvGrpSpPr>
        <p:grpSpPr>
          <a:xfrm>
            <a:off x="1282680" y="1066680"/>
            <a:ext cx="5435640" cy="2819520"/>
            <a:chOff x="1282680" y="1066680"/>
            <a:chExt cx="5435640" cy="2819520"/>
          </a:xfrm>
        </p:grpSpPr>
        <p:sp>
          <p:nvSpPr>
            <p:cNvPr id="569" name=""/>
            <p:cNvSpPr/>
            <p:nvPr/>
          </p:nvSpPr>
          <p:spPr>
            <a:xfrm>
              <a:off x="2629080" y="1066680"/>
              <a:ext cx="2717640" cy="101628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Demand (Arm1) =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Human consumption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+ Feed Use + Processing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82680" y="3111480"/>
              <a:ext cx="2349360" cy="76212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Domestic Sales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(DSales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43400" y="3124080"/>
              <a:ext cx="2374920" cy="76212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Imports (Arm2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1560600" y="2239920"/>
                  <a:ext cx="50832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rm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p</m:t>
                      </m:r>
                      <m:sSub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w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mports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ρ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r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ales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ρ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ρ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573" name=""/>
            <p:cNvCxnSpPr>
              <a:stCxn id="570" idx="0"/>
            </p:cNvCxnSpPr>
            <p:nvPr/>
          </p:nvCxnSpPr>
          <p:spPr>
            <a:xfrm flipV="1">
              <a:off x="2457000" y="2676240"/>
              <a:ext cx="1645560" cy="435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74" name=""/>
            <p:cNvCxnSpPr>
              <a:stCxn id="571" idx="0"/>
            </p:cNvCxnSpPr>
            <p:nvPr/>
          </p:nvCxnSpPr>
          <p:spPr>
            <a:xfrm flipH="1" flipV="1">
              <a:off x="4101840" y="2675880"/>
              <a:ext cx="1429200" cy="4482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raining with the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un on Member State level with 3 iterations one of the following simulation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1) abolish EU15 subsidized exports for whe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policy file policy\01NOSUPX.gm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2) Close EU15 tariff rate quota for whea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policy file policy\01NOTRQ.g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ile the model runs understand the policy fil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include pol_input\mtrstd.g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**** policy chang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ATA("EU015000","FEOE_max",XX,SIMY) = eps;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icy instruments: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kind of tariffs in CAPRI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uring runs bi-lateral “applied” rates, either specific (fixed duty per quantity, “STARIFF”) or ad-valorem (percentage of import prices, “ATARIFF”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applied rates fall in one of the following 3 categorie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99"/>
              </a:buClr>
              <a:buFont typeface="Arial"/>
              <a:buAutoNum type="arabicPeriod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xed, defined as the minimum of the bound rate (maximum tariff allowed according to WTO, so-called “Most favorite Nation” or MFN rates) and the applied rate ex-pos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99"/>
              </a:buClr>
              <a:buFont typeface="Arial"/>
              <a:buAutoNum type="arabicPeriod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xed to zero, based on preferences (e.g. North-American free trade zone, EU15 </a:t>
            </a:r>
            <a:r>
              <a:rPr b="0" lang="en-US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EU10, Cotonou, Everything but arm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99"/>
              </a:buClr>
              <a:buFont typeface="Arial"/>
              <a:buAutoNum type="arabicPeriod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ndogenous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99"/>
              </a:buClr>
              <a:buFont typeface="Arial"/>
              <a:buAutoNum type="arabicPeriod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Under TRQ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99"/>
              </a:buClr>
              <a:buFont typeface="Arial"/>
              <a:buAutoNum type="arabicPeriod"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nd/or under Minimum Import Price regime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ndogenous policy instrume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ly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ariffs as functions of import quantities in case of a Tariff Rate Quota (TRQ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U specific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lexible levies, i.e. tariffs under a minimal import price reg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bsidized exports under WTO value commitments Intervention purchases and releases from intervention stock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19240" y="6583320"/>
            <a:ext cx="32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Endogenous Polic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777960" y="4229280"/>
            <a:ext cx="7818480" cy="1725480"/>
            <a:chOff x="777960" y="4229280"/>
            <a:chExt cx="7818480" cy="1725480"/>
          </a:xfrm>
        </p:grpSpPr>
        <p:sp>
          <p:nvSpPr>
            <p:cNvPr id="581" name=""/>
            <p:cNvSpPr/>
            <p:nvPr/>
          </p:nvSpPr>
          <p:spPr>
            <a:xfrm>
              <a:off x="5484960" y="4584600"/>
              <a:ext cx="3111480" cy="6476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777960" y="4229280"/>
              <a:ext cx="6262920" cy="1725480"/>
              <a:chOff x="777960" y="4229280"/>
              <a:chExt cx="6262920" cy="1725480"/>
            </a:xfrm>
          </p:grpSpPr>
          <p:sp>
            <p:nvSpPr>
              <p:cNvPr id="583" name=""/>
              <p:cNvSpPr/>
              <p:nvPr/>
            </p:nvSpPr>
            <p:spPr>
              <a:xfrm>
                <a:off x="3757680" y="5143680"/>
                <a:ext cx="1701720" cy="774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Function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For subsidiz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exports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584" name=""/>
              <p:cNvCxnSpPr>
                <a:stCxn id="583" idx="3"/>
                <a:endCxn id="581" idx="4"/>
              </p:cNvCxnSpPr>
              <p:nvPr/>
            </p:nvCxnSpPr>
            <p:spPr>
              <a:xfrm flipV="1">
                <a:off x="5459400" y="5231520"/>
                <a:ext cx="1581840" cy="2991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/>
              <p:nvPr/>
            </p:nvSpPr>
            <p:spPr>
              <a:xfrm>
                <a:off x="3263760" y="4229280"/>
                <a:ext cx="482760" cy="1333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7960" y="5586480"/>
                <a:ext cx="21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</a:rPr>
                  <a:t>Administrative price</a:t>
                </a:r>
                <a:endParaRPr b="0" lang="en-US" sz="1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587" name=""/>
              <p:cNvCxnSpPr>
                <a:stCxn id="586" idx="3"/>
                <a:endCxn id="585" idx="0"/>
              </p:cNvCxnSpPr>
              <p:nvPr/>
            </p:nvCxnSpPr>
            <p:spPr>
              <a:xfrm flipV="1">
                <a:off x="2952360" y="5562000"/>
                <a:ext cx="794520" cy="2084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588" name=""/>
          <p:cNvSpPr/>
          <p:nvPr/>
        </p:nvSpPr>
        <p:spPr>
          <a:xfrm>
            <a:off x="6107040" y="3708360"/>
            <a:ext cx="3111480" cy="10159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licy instruments impacting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rectly on import pri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13400" y="3922560"/>
            <a:ext cx="81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mport prices = Market Price x Exchange Rate x (1 + bilateral ad valorem tariff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+ bilateral specific tariff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- export subsid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931000" y="1193760"/>
            <a:ext cx="3047760" cy="2514960"/>
            <a:chOff x="5931000" y="1193760"/>
            <a:chExt cx="3047760" cy="2514960"/>
          </a:xfrm>
        </p:grpSpPr>
        <p:sp>
          <p:nvSpPr>
            <p:cNvPr id="592" name=""/>
            <p:cNvSpPr/>
            <p:nvPr/>
          </p:nvSpPr>
          <p:spPr>
            <a:xfrm>
              <a:off x="5931000" y="1193760"/>
              <a:ext cx="3047760" cy="1714680"/>
            </a:xfrm>
            <a:prstGeom prst="rect">
              <a:avLst/>
            </a:prstGeom>
            <a:solidFill>
              <a:srgbClr val="6699ff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Arial"/>
                </a:rPr>
                <a:t>Exogenou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56280" y="1879560"/>
              <a:ext cx="1104840" cy="7747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MFN</a:t>
              </a:r>
              <a:br>
                <a:rPr sz="1400"/>
              </a:b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rate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75600" y="1879560"/>
              <a:ext cx="1562040" cy="7747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Preferential</a:t>
              </a:r>
              <a:br>
                <a:rPr sz="1400"/>
              </a:br>
              <a:r>
                <a:rPr b="0" lang="en-US" sz="1400" spc="-1" strike="noStrike">
                  <a:solidFill>
                    <a:srgbClr val="ffff99"/>
                  </a:solidFill>
                  <a:latin typeface="Arial"/>
                </a:rPr>
                <a:t>agreement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>
              <a:stCxn id="593" idx="2"/>
              <a:endCxn id="588" idx="0"/>
            </p:cNvCxnSpPr>
            <p:nvPr/>
          </p:nvCxnSpPr>
          <p:spPr>
            <a:xfrm>
              <a:off x="6608880" y="2654280"/>
              <a:ext cx="1054800" cy="1054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94" idx="2"/>
              <a:endCxn id="588" idx="0"/>
            </p:cNvCxnSpPr>
            <p:nvPr/>
          </p:nvCxnSpPr>
          <p:spPr>
            <a:xfrm flipH="1">
              <a:off x="7662240" y="2654280"/>
              <a:ext cx="394200" cy="10548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597" name=""/>
          <p:cNvGrpSpPr/>
          <p:nvPr/>
        </p:nvGrpSpPr>
        <p:grpSpPr>
          <a:xfrm>
            <a:off x="177840" y="1650960"/>
            <a:ext cx="7878600" cy="2057760"/>
            <a:chOff x="177840" y="1650960"/>
            <a:chExt cx="7878600" cy="2057760"/>
          </a:xfrm>
        </p:grpSpPr>
        <p:grpSp>
          <p:nvGrpSpPr>
            <p:cNvPr id="598" name=""/>
            <p:cNvGrpSpPr/>
            <p:nvPr/>
          </p:nvGrpSpPr>
          <p:grpSpPr>
            <a:xfrm>
              <a:off x="177840" y="1778040"/>
              <a:ext cx="7485120" cy="1930680"/>
              <a:chOff x="177840" y="1778040"/>
              <a:chExt cx="7485120" cy="1930680"/>
            </a:xfrm>
          </p:grpSpPr>
          <p:sp>
            <p:nvSpPr>
              <p:cNvPr id="599" name=""/>
              <p:cNvSpPr/>
              <p:nvPr/>
            </p:nvSpPr>
            <p:spPr>
              <a:xfrm>
                <a:off x="177840" y="1778040"/>
                <a:ext cx="5549760" cy="1714320"/>
              </a:xfrm>
              <a:prstGeom prst="rect">
                <a:avLst/>
              </a:prstGeom>
              <a:solidFill>
                <a:srgbClr val="6699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Endogenous tariffs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35520" y="2476440"/>
                <a:ext cx="1701720" cy="7747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Minimum import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prices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95640" y="2476440"/>
                <a:ext cx="1625400" cy="7747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Global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TRQs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77920" y="2476440"/>
                <a:ext cx="1778040" cy="7747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Allocated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99"/>
                    </a:solidFill>
                    <a:latin typeface="Arial"/>
                  </a:rPr>
                  <a:t>TRQs</a:t>
                </a:r>
                <a:endParaRPr b="0" lang="en-US" sz="1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cxnSp>
            <p:nvCxnSpPr>
              <p:cNvPr id="603" name=""/>
              <p:cNvCxnSpPr>
                <a:stCxn id="602" idx="2"/>
                <a:endCxn id="588" idx="0"/>
              </p:cNvCxnSpPr>
              <p:nvPr/>
            </p:nvCxnSpPr>
            <p:spPr>
              <a:xfrm>
                <a:off x="1166400" y="3251160"/>
                <a:ext cx="64969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604" name=""/>
              <p:cNvCxnSpPr>
                <a:stCxn id="601" idx="2"/>
                <a:endCxn id="588" idx="0"/>
              </p:cNvCxnSpPr>
              <p:nvPr/>
            </p:nvCxnSpPr>
            <p:spPr>
              <a:xfrm>
                <a:off x="3008160" y="3251160"/>
                <a:ext cx="465516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605" name=""/>
              <p:cNvCxnSpPr>
                <a:stCxn id="600" idx="2"/>
                <a:endCxn id="588" idx="0"/>
              </p:cNvCxnSpPr>
              <p:nvPr/>
            </p:nvCxnSpPr>
            <p:spPr>
              <a:xfrm>
                <a:off x="4785840" y="3251160"/>
                <a:ext cx="287748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606" name=""/>
              <p:cNvCxnSpPr>
                <a:stCxn id="593" idx="1"/>
                <a:endCxn id="602" idx="0"/>
              </p:cNvCxnSpPr>
              <p:nvPr/>
            </p:nvCxnSpPr>
            <p:spPr>
              <a:xfrm flipV="1" rot="10800000">
                <a:off x="1166040" y="2266560"/>
                <a:ext cx="4890240" cy="210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"/>
              <p:cNvCxnSpPr>
                <a:stCxn id="593" idx="1"/>
                <a:endCxn id="601" idx="0"/>
              </p:cNvCxnSpPr>
              <p:nvPr/>
            </p:nvCxnSpPr>
            <p:spPr>
              <a:xfrm flipV="1" rot="10800000">
                <a:off x="3007440" y="2266560"/>
                <a:ext cx="3048840" cy="210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"/>
              <p:cNvCxnSpPr>
                <a:stCxn id="593" idx="1"/>
                <a:endCxn id="600" idx="0"/>
              </p:cNvCxnSpPr>
              <p:nvPr/>
            </p:nvCxnSpPr>
            <p:spPr>
              <a:xfrm flipV="1" rot="10800000">
                <a:off x="4785480" y="2266560"/>
                <a:ext cx="1270800" cy="210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609" name=""/>
            <p:cNvCxnSpPr>
              <a:stCxn id="594" idx="0"/>
              <a:endCxn id="602" idx="0"/>
            </p:cNvCxnSpPr>
            <p:nvPr/>
          </p:nvCxnSpPr>
          <p:spPr>
            <a:xfrm rot="5400000">
              <a:off x="4312440" y="-1266840"/>
              <a:ext cx="597600" cy="6890400"/>
            </a:xfrm>
            <a:prstGeom prst="bentConnector3">
              <a:avLst>
                <a:gd name="adj1" fmla="val -382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ariff Rate Quota, regimes and re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wo tiered tariff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n quota tariff up to a certain quantity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FN (Most Favorite Nation) rate for over-quota impor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ossible regimes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RQ not filled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lower in quota tariff applied </a:t>
            </a:r>
            <a:r>
              <a:rPr b="0" lang="en-US" sz="16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marginal willingness to pay equal to border price plus in quota tariff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No rent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Over quota import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higher over quota tariff applied </a:t>
            </a:r>
            <a:r>
              <a:rPr b="0" lang="en-US" sz="16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marginal willingness to play equal to border price plus over quota tariff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conomic rents for imports up to quota: difference between tariffs times quot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inding quot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In quota tariff applied </a:t>
            </a:r>
            <a:r>
              <a:rPr b="0" lang="en-US" sz="16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marginal willingness to pay in between border prices plus in quota tariffs and border price plus over quota tariff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Rent as difference between marginal willingness and border prices plus in quota tariffs times quota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30120" y="658332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TRQ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Tariff Rate Quota, regimes and ren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30120" y="658332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TRQ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407960" y="1206360"/>
            <a:ext cx="0" cy="43308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20920" y="5549760"/>
            <a:ext cx="6172200" cy="129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7840" y="3568680"/>
            <a:ext cx="30988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77840" y="4267080"/>
            <a:ext cx="6515280" cy="129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9040" y="404640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176720" y="1917720"/>
            <a:ext cx="0" cy="1650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76720" y="1917720"/>
            <a:ext cx="31114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7440" y="3271680"/>
            <a:ext cx="10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= 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 +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76720" y="3568680"/>
            <a:ext cx="0" cy="21207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3720" y="3581280"/>
            <a:ext cx="88920" cy="673200"/>
          </a:xfrm>
          <a:custGeom>
            <a:avLst/>
            <a:gdLst>
              <a:gd name="textAreaLeft" fmla="*/ 0 w 88920"/>
              <a:gd name="textAreaRight" fmla="*/ 32040 w 88920"/>
              <a:gd name="textAreaTop" fmla="*/ 17280 h 673200"/>
              <a:gd name="textAreaBottom" fmla="*/ 65592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30440" y="375444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29280" y="1981080"/>
            <a:ext cx="50760" cy="1536840"/>
          </a:xfrm>
          <a:custGeom>
            <a:avLst/>
            <a:gdLst>
              <a:gd name="textAreaLeft" fmla="*/ 0 w 50760"/>
              <a:gd name="textAreaRight" fmla="*/ 18360 w 5076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66440" y="26240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Over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72520" y="57229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Quot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46920" y="5392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gime I: underfilled TRQ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630120" y="658332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APRI market model: TRQ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07960" y="1206360"/>
            <a:ext cx="0" cy="43308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20920" y="5549760"/>
            <a:ext cx="6172200" cy="1296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77840" y="3568680"/>
            <a:ext cx="30988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077840" y="4267080"/>
            <a:ext cx="6515280" cy="129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9040" y="404640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176720" y="1917720"/>
            <a:ext cx="0" cy="165096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76720" y="1917720"/>
            <a:ext cx="311148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7440" y="3271680"/>
            <a:ext cx="10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price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= Border</a:t>
            </a:r>
            <a:br>
              <a:rPr sz="1200"/>
            </a:b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e +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76720" y="3568680"/>
            <a:ext cx="0" cy="2120760"/>
          </a:xfrm>
          <a:prstGeom prst="line">
            <a:avLst/>
          </a:prstGeom>
          <a:ln w="1584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203720" y="3581280"/>
            <a:ext cx="88920" cy="673200"/>
          </a:xfrm>
          <a:custGeom>
            <a:avLst/>
            <a:gdLst>
              <a:gd name="textAreaLeft" fmla="*/ 0 w 88920"/>
              <a:gd name="textAreaRight" fmla="*/ 32040 w 88920"/>
              <a:gd name="textAreaTop" fmla="*/ 17280 h 673200"/>
              <a:gd name="textAreaBottom" fmla="*/ 65592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30440" y="375444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n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29280" y="1981080"/>
            <a:ext cx="50760" cy="1536840"/>
          </a:xfrm>
          <a:custGeom>
            <a:avLst/>
            <a:gdLst>
              <a:gd name="textAreaLeft" fmla="*/ 0 w 50760"/>
              <a:gd name="textAreaRight" fmla="*/ 18360 w 5076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366440" y="262404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Over quota tariff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72520" y="572292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Quot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46920" y="53928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14680" y="2044800"/>
            <a:ext cx="1828800" cy="2070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8120" y="3556080"/>
            <a:ext cx="0" cy="2184480"/>
          </a:xfrm>
          <a:prstGeom prst="line">
            <a:avLst/>
          </a:prstGeom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79480" y="5761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26920" y="2370240"/>
            <a:ext cx="128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mport deman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0:45:26Z</dcterms:created>
  <dc:creator>Gast</dc:creator>
  <dc:description/>
  <dc:language>en-US</dc:language>
  <cp:lastModifiedBy>Wolfgang 2</cp:lastModifiedBy>
  <dcterms:modified xsi:type="dcterms:W3CDTF">2008-10-23T06:37:24Z</dcterms:modified>
  <cp:revision>299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