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5213" cy="4281805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272494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64720" y="19848240"/>
            <a:ext cx="272494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82768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64720" y="1984824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827680" y="1984824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077840" y="508968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0600" y="508968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64720" y="1984824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077840" y="1984824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9290600" y="19848240"/>
            <a:ext cx="877392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64720" y="5089680"/>
            <a:ext cx="27249480" cy="28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74"/>
              </a:spcBef>
              <a:buNone/>
              <a:tabLst>
                <a:tab algn="l" pos="0"/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272494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132976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827680" y="5089680"/>
            <a:ext cx="132976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513800" y="1708200"/>
            <a:ext cx="27248040" cy="33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74"/>
              </a:spcBef>
              <a:tabLst>
                <a:tab algn="l" pos="0"/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827680" y="5089680"/>
            <a:ext cx="132976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64720" y="1984824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132976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82768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27680" y="1984824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3800" y="1708200"/>
            <a:ext cx="27248040" cy="71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472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827680" y="5089680"/>
            <a:ext cx="132976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64720" y="19848240"/>
            <a:ext cx="27249480" cy="13477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3674"/>
              </a:spcBef>
              <a:buNone/>
              <a:tabLst>
                <a:tab algn="l" pos="4176720"/>
                <a:tab algn="l" pos="8353440"/>
              </a:tabLst>
            </a:pP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4720" y="5089680"/>
            <a:ext cx="27249480" cy="28255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1566720" indent="-1566720">
              <a:spcBef>
                <a:spcPts val="3674"/>
              </a:spcBef>
              <a:buClr>
                <a:srgbClr val="ffffff"/>
              </a:buClr>
              <a:buFont typeface="Arial"/>
              <a:buChar char="•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1" marL="3394080" indent="-1305000">
              <a:spcBef>
                <a:spcPts val="3674"/>
              </a:spcBef>
              <a:buClr>
                <a:srgbClr val="ffffff"/>
              </a:buClr>
              <a:buFont typeface="Arial"/>
              <a:buChar char="–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2" marL="5221440" indent="-1044720">
              <a:spcBef>
                <a:spcPts val="3674"/>
              </a:spcBef>
              <a:buClr>
                <a:srgbClr val="ffffff"/>
              </a:buClr>
              <a:buFont typeface="Arial"/>
              <a:buChar char="•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3" marL="7308720" indent="-1044360">
              <a:spcBef>
                <a:spcPts val="3674"/>
              </a:spcBef>
              <a:buClr>
                <a:srgbClr val="ffffff"/>
              </a:buClr>
              <a:buFont typeface="Arial"/>
              <a:buChar char="–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4" marL="9396360" indent="-1044360">
              <a:spcBef>
                <a:spcPts val="3674"/>
              </a:spcBef>
              <a:buClr>
                <a:srgbClr val="ffffff"/>
              </a:buClr>
              <a:buFont typeface="Arial"/>
              <a:buChar char="»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5" marL="9396360" indent="-1044360">
              <a:spcBef>
                <a:spcPts val="3674"/>
              </a:spcBef>
              <a:buClr>
                <a:srgbClr val="ffffff"/>
              </a:buClr>
              <a:buFont typeface="Arial"/>
              <a:buChar char="»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  <a:p>
            <a:pPr lvl="6" marL="9396360" indent="-1044360">
              <a:spcBef>
                <a:spcPts val="3674"/>
              </a:spcBef>
              <a:buClr>
                <a:srgbClr val="ffffff"/>
              </a:buClr>
              <a:buFont typeface="Arial"/>
              <a:buChar char="»"/>
              <a:tabLst>
                <a:tab algn="l" pos="4176720"/>
                <a:tab algn="l" pos="8353440"/>
              </a:tabLst>
            </a:pPr>
            <a:r>
              <a:rPr b="0" lang="en-US" sz="14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mailto:arno.becker@ilr.uni-bonn.de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efefe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11403000" y="6970680"/>
            <a:ext cx="15562440" cy="6775560"/>
          </a:xfrm>
          <a:prstGeom prst="rightArrowCallout">
            <a:avLst>
              <a:gd name="adj1" fmla="val 11483"/>
              <a:gd name="adj2" fmla="val 9394"/>
              <a:gd name="adj3" fmla="val 60"/>
              <a:gd name="adj4" fmla="val 95986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" name="" descr=""/>
          <p:cNvPicPr/>
          <p:nvPr/>
        </p:nvPicPr>
        <p:blipFill>
          <a:blip r:embed="rId1"/>
          <a:srcRect l="0" t="14000" r="1308" b="0"/>
          <a:stretch/>
        </p:blipFill>
        <p:spPr>
          <a:xfrm>
            <a:off x="11522160" y="8854920"/>
            <a:ext cx="7192800" cy="448164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0" y="0"/>
            <a:ext cx="30276720" cy="488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302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219640" y="2817720"/>
            <a:ext cx="19869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no Beck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for Food and Resource Economics (ILR) , University of Bon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startseite-neu_logo" descr="Universität Bonn"/>
          <p:cNvPicPr/>
          <p:nvPr/>
        </p:nvPicPr>
        <p:blipFill>
          <a:blip r:embed="rId2">
            <a:lum contrast="38000"/>
          </a:blip>
          <a:stretch/>
        </p:blipFill>
        <p:spPr>
          <a:xfrm>
            <a:off x="23821920" y="1851120"/>
            <a:ext cx="5875560" cy="2082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2479400"/>
            <a:ext cx="3027528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90600" y="6332400"/>
            <a:ext cx="364320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993300"/>
                </a:solidFill>
                <a:latin typeface="Arial"/>
              </a:rPr>
              <a:t>Impa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85560" y="6332400"/>
            <a:ext cx="16517880" cy="74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993300"/>
                </a:solidFill>
                <a:latin typeface="Arial"/>
              </a:rPr>
              <a:t>Market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9360" y="6286680"/>
            <a:ext cx="3613320" cy="74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993300"/>
                </a:solidFill>
                <a:latin typeface="Arial"/>
              </a:rPr>
              <a:t>Policy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360" y="6270480"/>
            <a:ext cx="6612120" cy="74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993300"/>
                </a:solidFill>
                <a:latin typeface="Arial"/>
              </a:rPr>
              <a:t>Policy objec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" y="6919920"/>
            <a:ext cx="6504120" cy="6759720"/>
          </a:xfrm>
          <a:prstGeom prst="rightArrowCallout">
            <a:avLst>
              <a:gd name="adj1" fmla="val 12280"/>
              <a:gd name="adj2" fmla="val 10912"/>
              <a:gd name="adj3" fmla="val 9083"/>
              <a:gd name="adj4" fmla="val 90917"/>
            </a:avLst>
          </a:prstGeom>
          <a:gradFill rotWithShape="0">
            <a:gsLst>
              <a:gs pos="0">
                <a:srgbClr val="fefefe"/>
              </a:gs>
              <a:gs pos="100000">
                <a:srgbClr val="e5e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1520" indent="-371520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Leading to bioenergy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duction of GH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ergy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ural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come grow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ob creation in rural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ffected by bioenergy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ustainability of agricultural syst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rvation of landsca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od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cial welf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0080" y="6956280"/>
            <a:ext cx="4248000" cy="6723360"/>
          </a:xfrm>
          <a:prstGeom prst="rightArrowCallout">
            <a:avLst>
              <a:gd name="adj1" fmla="val 14759"/>
              <a:gd name="adj2" fmla="val 15864"/>
              <a:gd name="adj3" fmla="val 14606"/>
              <a:gd name="adj4" fmla="val 85394"/>
            </a:avLst>
          </a:prstGeom>
          <a:gradFill rotWithShape="0">
            <a:gsLst>
              <a:gs pos="0">
                <a:srgbClr val="fefefe"/>
              </a:gs>
              <a:gs pos="100000">
                <a:srgbClr val="e5e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motion of bioenergy / biofue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vestment incen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ax incen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 subsi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otas/mand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ndering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ce support (Feet-in tariff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rcRect l="0" t="0" r="1756" b="0"/>
          <a:stretch/>
        </p:blipFill>
        <p:spPr>
          <a:xfrm>
            <a:off x="18667440" y="8620200"/>
            <a:ext cx="7458120" cy="488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614400" y="7194600"/>
            <a:ext cx="1337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inuous growth of global biofuel / bioenergy production as a result of political support and high crude oil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217320" y="8353440"/>
            <a:ext cx="68486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Ethanol production (2000 -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32600" y="8344080"/>
            <a:ext cx="7227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iodiesel production (2000 - 2005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053440" y="9855000"/>
            <a:ext cx="5605200" cy="217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78040" y="6970680"/>
            <a:ext cx="2825640" cy="6735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e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mpacts on agricultural market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lf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Environmen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utrient inpu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3900680" y="73800"/>
            <a:ext cx="1508040" cy="28967040"/>
          </a:xfrm>
          <a:custGeom>
            <a:avLst/>
            <a:gdLst>
              <a:gd name="textAreaLeft" fmla="*/ 201960 w 1508040"/>
              <a:gd name="textAreaRight" fmla="*/ 1306080 w 1508040"/>
              <a:gd name="textAreaTop" fmla="*/ 6322680 h 28967040"/>
              <a:gd name="textAreaBottom" fmla="*/ 20467800 h 289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0" stAng="-5400000" swAng="5400000"/>
                <a:lnTo>
                  <a:pt x="21600" y="10548"/>
                </a:lnTo>
                <a:arcTo wR="21600" hR="9430" stAng="0" swAng="3493599"/>
                <a:lnTo>
                  <a:pt x="5638" y="21273"/>
                </a:lnTo>
                <a:lnTo>
                  <a:pt x="0" y="19418"/>
                </a:lnTo>
                <a:lnTo>
                  <a:pt x="5638" y="16909"/>
                </a:lnTo>
                <a:lnTo>
                  <a:pt x="5638" y="18532"/>
                </a:lnTo>
                <a:arcTo wR="21600" hR="9430" stAng="3493599" swAng="-3404495"/>
                <a:lnTo>
                  <a:pt x="21562" y="9989"/>
                </a:lnTo>
                <a:arcTo wR="21600" hR="9430" stAng="-89104" swAng="-5310896"/>
                <a:close/>
              </a:path>
              <a:path fill="darkenLess" w="21600" h="21600">
                <a:moveTo>
                  <a:pt x="0" y="0"/>
                </a:moveTo>
                <a:arcTo wR="21600" hR="9430" stAng="-5400000" swAng="5400000"/>
                <a:lnTo>
                  <a:pt x="21600" y="10548"/>
                </a:lnTo>
                <a:arcTo wR="21600" hR="9430" stAng="0" swAng="-89104"/>
                <a:lnTo>
                  <a:pt x="21562" y="9989"/>
                </a:lnTo>
                <a:arcTo wR="21600" hR="9430" stAng="-89104" swAng="-5310896"/>
                <a:close/>
              </a:path>
            </a:pathLst>
          </a:cu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0080" y="13717440"/>
            <a:ext cx="2558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analy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e the impacts on economic and environmental concerns compatible with the primal objectiv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195800"/>
            <a:ext cx="30276720" cy="8557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efefe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4424400"/>
                <a:tab algn="l" pos="88488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058520"/>
            <a:ext cx="30276720" cy="8557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efefe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4424400"/>
                <a:tab algn="l" pos="88488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040" y="26209080"/>
            <a:ext cx="11685600" cy="16060320"/>
          </a:xfrm>
          <a:custGeom>
            <a:avLst/>
            <a:gdLst>
              <a:gd name="textAreaLeft" fmla="*/ 570240 w 11685600"/>
              <a:gd name="textAreaRight" fmla="*/ 11115360 w 11685600"/>
              <a:gd name="textAreaTop" fmla="*/ 570240 h 16060320"/>
              <a:gd name="textAreaBottom" fmla="*/ 15490080 h 16060320"/>
            </a:gdLst>
            <a:ahLst/>
            <a:rect l="textAreaLeft" t="textAreaTop" r="textAreaRight" b="textAreaBottom"/>
            <a:pathLst>
              <a:path w="21600" h="29686">
                <a:moveTo>
                  <a:pt x="3600" y="0"/>
                </a:moveTo>
                <a:arcTo wR="3600" hR="3600" stAng="16200000" swAng="-5400000"/>
                <a:lnTo>
                  <a:pt x="0" y="26086"/>
                </a:lnTo>
                <a:arcTo wR="3600" hR="3600" stAng="10800000" swAng="-5400000"/>
                <a:lnTo>
                  <a:pt x="18000" y="29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5e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Classification of the CAPRI mode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(Common Agricultural Policy Regional Impacts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tial economic model focusing on agricultural se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ion, demand, trade, prices of agricultural products are interacting and simulated simultaneous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interlinked modules: A globally closed spatial multi-commodity model for primary and secondary agricultural products (market module) and non-linear programming models for EU27, Norway and Western Balkans which capturing in detail farm management decisions at regional level (supply modul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Adjusting the CAPRI mode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of bioenergy products as they are not fully integrated so far and demand is not endogeno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energy demand will be derived through either a linkage with an energy model or through scenario analysi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n interface with an energy model, e.g. PRIMES, is currently discussed in the EU-LIFE project ‘EC4MACS’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of major activities describing the processing of agricultural raw products into bioenergy (including e.g. technologies, conversion coefficients, feedstock demand distribut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of biofuel trade into the market modu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largement of the calculation of basic environmental indicators to a global coverage (non-EU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27160"/>
            <a:ext cx="30276720" cy="8557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efefe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4424400"/>
                <a:tab algn="l" pos="88488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440" y="18100800"/>
            <a:ext cx="18280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Research subjec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        Agricultural sector (European and global production, markets, trade, 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                      prices and environmental issues connected to agricultural land use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onsidered polici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    EU and global bioenergy targets, EU agricultural (CAP) and trade poli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Research focu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          Impacts on the agricultural sector, environment and global food supply security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onsidered product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  In a fist step only first-generation biofuels (ethanol / biodiese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Overall objective: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A detailed analysis of trade-offs between different objectives connected to the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                     promotion of bioenerg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nalysis intends to assess the following variables (indicators) which could be used to derive conclusions about the achievement of different policy objectiv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00400"/>
            <a:ext cx="30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bjective of the intended analysis is to investigate selected economic and ecological impacts under scenarios of Europ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international bioenergy quantity targets with respect to the achievement of existing policy object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184720"/>
            <a:ext cx="3027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ergy or fuels based on biomass arrived at sizeable production quantities worldwide, partially caused by extensive policy support for the 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processing of biomass . If this trend continues, significant impacts on global agricultural markets and the environment will aris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680" y="42314760"/>
            <a:ext cx="299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no Becker, Institute for Food and Resource Economics (ILR), University of Bonn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arno.becker@ilr.uni-bonn.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/ +49 (0) 228 / 73 23 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98400" y="13401000"/>
            <a:ext cx="35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International Energy Agency - IEA (20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rcRect l="253" t="585" r="352" b="877"/>
          <a:stretch/>
        </p:blipFill>
        <p:spPr>
          <a:xfrm>
            <a:off x="18892800" y="18181800"/>
            <a:ext cx="10766520" cy="643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504800" y="235080"/>
            <a:ext cx="2718756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8400" spc="-1" strike="noStrike">
                <a:solidFill>
                  <a:srgbClr val="000000"/>
                </a:solidFill>
                <a:latin typeface="Times New Roman"/>
              </a:rPr>
              <a:t>Biomass for energy production in the context of  European 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8400" spc="-1" strike="noStrike">
                <a:solidFill>
                  <a:srgbClr val="000000"/>
                </a:solidFill>
                <a:latin typeface="Times New Roman"/>
              </a:rPr>
              <a:t>and international policy objectives 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banner" descr="EC4MACS Homepage"/>
          <p:cNvPicPr/>
          <p:nvPr/>
        </p:nvPicPr>
        <p:blipFill>
          <a:blip r:embed="rId6">
            <a:lum contrast="56000"/>
          </a:blip>
          <a:srcRect l="1381" t="0" r="89523" b="0"/>
          <a:stretch/>
        </p:blipFill>
        <p:spPr>
          <a:xfrm>
            <a:off x="484200" y="1949400"/>
            <a:ext cx="2271600" cy="206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12823920" y="9624960"/>
            <a:ext cx="5467320" cy="142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2203280" y="26173080"/>
            <a:ext cx="17682840" cy="160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16:54:39Z</dcterms:created>
  <dc:creator>mbarek</dc:creator>
  <dc:description/>
  <dc:language>en-US</dc:language>
  <cp:lastModifiedBy>Wolfgang 2</cp:lastModifiedBy>
  <cp:lastPrinted>2003-09-24T07:49:27Z</cp:lastPrinted>
  <dcterms:modified xsi:type="dcterms:W3CDTF">2008-10-22T13:17:50Z</dcterms:modified>
  <cp:revision>266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3181594</vt:r8>
  </property>
  <property fmtid="{D5CDD505-2E9C-101B-9397-08002B2CF9AE}" pid="3" name="_AuthorEmail">
    <vt:lpwstr>arno.becker@ilr.uni-bonn.de</vt:lpwstr>
  </property>
  <property fmtid="{D5CDD505-2E9C-101B-9397-08002B2CF9AE}" pid="4" name="_AuthorEmailDisplayName">
    <vt:lpwstr>Arno Becker</vt:lpwstr>
  </property>
  <property fmtid="{D5CDD505-2E9C-101B-9397-08002B2CF9AE}" pid="5" name="_EmailSubject">
    <vt:lpwstr>CAPRI Web page</vt:lpwstr>
  </property>
  <property fmtid="{D5CDD505-2E9C-101B-9397-08002B2CF9AE}" pid="6" name="_PreviousAdHocReviewCycleID">
    <vt:r8>-162764219</vt:r8>
  </property>
  <property fmtid="{D5CDD505-2E9C-101B-9397-08002B2CF9AE}" pid="7" name="_ReviewingToolsShownOnce">
    <vt:lpwstr/>
  </property>
</Properties>
</file>